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233BA-0F6C-4E35-8265-2AF8AAD8DB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D5A8E-1AC9-443D-9A50-04A78F4868E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F9ECA-8453-4D0F-98E9-1DD7A7C2629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0BCD-134F-4672-934C-36AD8290003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064BF-2C0F-40C6-87BE-BDD5FECFB8C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DF7BA-AD5F-473A-9679-86B2A9B75A7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2717-F979-4F37-A389-C0B25857C31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F750C-8AAB-4972-95D9-BA60E4560D3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6794F-AAA3-4346-94BA-DECF44537BF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B633E-8404-45F6-95B3-BE87CC9A1B0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A89ED-0300-4C25-8D1D-ACD58224923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EB447-2FF4-4585-9F8E-738FD3CE686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ECA6A-68E2-43F1-BDA4-391275628A8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ADCCF-3948-4DA7-81C2-FB222A426ED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762BE-8B1B-4AE1-96D7-F79C4663792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CEAF-9BE5-4235-B7D6-3B00AFA59E2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D0D2-0DC9-4FE5-B7D7-4BBBF36EE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E6C4-284F-4DD9-8957-9AAB89F25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6D6D-4A0B-4173-96A4-981DE5D9D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57A4-A70C-4441-845D-EAA7C6453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F2E0-41BA-4839-A27C-0D1225FC16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F9E2-B5DD-4953-BA58-E387BC3B42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40C1-CE8E-4443-AE19-F250DEF09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EE1D-F034-4EF9-A7C6-38E1073E70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5909-C2B7-42C9-9EB5-7C21A4281D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2014200"/>
            <a:ext cx="8569440" cy="83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C501-0DE4-49E3-A26E-B31DC4E78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0934-97D1-4EA2-BF45-40A963B62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757B-62C0-4671-8080-C456CD25B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1EDE-AEEC-4A08-AFA2-6E58AAAC73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A4F2-2A5F-49CD-A01B-A12EEE767D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AC2A-D3C9-414B-90FC-2C5A13B9D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F600-656A-4A9B-8B11-F78A08EED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ACED-B530-4D31-B3AC-D6727E4A3C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C539B-5A16-46F7-BF60-5781E1B1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69B5-D78F-460A-8460-52F1CF9B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C9066-CC3E-493D-AEB0-32F244E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04A7-F5E0-428A-8A1D-DC6139D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A05E-CEE3-40F0-9A83-3E3879E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66F1-DE62-4FB1-B43D-AD3F9B1306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755640" y="2014200"/>
            <a:ext cx="8569440" cy="83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C4EFB-E67D-49AE-9D7F-D824352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3645-6E3A-487F-8784-F3B61584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6797A-23EB-4864-8D88-9BB7F90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AC78-136F-4D01-BE5F-699C0E3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90924-7F73-42FA-BDF2-32D824A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22626-73E6-42E6-97A6-53A1AC23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A7B51-B607-48EE-9EA3-FA96374D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8724E-6EC9-449E-82BD-1C1FD284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EA2F6-ED2A-4422-984F-3B7CA06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18621-0FD6-4368-BCC3-A90377B5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528E-A7E5-4FC0-9925-879D445C22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53F28-3D41-4A74-B960-87CC889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7E87E-2133-4846-AACE-B1F1DC06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755640" y="2014200"/>
            <a:ext cx="8569440" cy="83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AC5A6-4B44-4C00-96EF-23EAED6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107B9-4173-4331-9B8C-32168AA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E1FB5-8EAC-4963-936D-C3DC1AB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958AA-BF02-4098-838D-86D4CE3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20CD9-22EC-457F-A430-4CACF35F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29024-95B6-4590-AACD-AFBCC26F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B9DD6-A9EA-4E9B-BDAE-52464ABC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72E82-9451-4B68-BD7F-50C65EDA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47AB-7E4E-45E4-B0DE-CFAFFBD51F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91E92-4173-4E21-8F2B-8194F07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3EBAC-636D-42D4-9F99-ACA9F68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B5041-F293-48E1-9700-4CC8F7C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E040D-66EB-4D7B-AE49-55C72045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755640" y="2014200"/>
            <a:ext cx="8569440" cy="83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D5D91-6113-43D7-ABB3-108C53F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1207F-DAEC-49F6-9C19-44FF4F2E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9C31D-8BAC-4CB7-9A08-BAD0BCC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1E422-0614-4CCF-9453-B0FB72A5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19CF9-E7E5-4825-B3C7-734F7D5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94CF5-00E8-49A4-B7A8-43E08D2B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2014200"/>
            <a:ext cx="8569440" cy="83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5AF1-B18D-4EC2-8E6E-74DEAFD331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E50D5-FFC7-47A5-9558-33A33EDD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B5E56-B386-4C1D-BAB8-E17D590A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39683-E518-4243-A603-C7C5C14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899FE-8458-4758-B52F-B0F68D09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10F05-55E7-454A-9D17-E54BF0AF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FF000-01DE-4978-AB69-8BF02D7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755640" y="2014200"/>
            <a:ext cx="8569440" cy="83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60247-ADC7-489C-A584-92F1AFB2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6C81-1762-4369-8F0A-76DFA21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8C0F1-61A4-497A-BC58-31EDD33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B5C92-AA43-4894-BD86-1A6A261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6370-A387-48EF-8F40-55EE1F66CE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46CBF-E6C0-4BD3-80EE-EDB5830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053EC-B120-48CE-9AD1-5AE7A345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77EC5-A455-4092-A211-71A9CB53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ACDB-F575-4EE7-AE14-2122250FB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327C-BAF0-44C2-A9BC-64708EBC8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D7008-FAD9-40E7-8D94-3EA4F7811E6E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3240000" y="68040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2150C-FA6C-4CF3-ABF4-D7E7E504387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916320" y="-23760"/>
            <a:ext cx="3270240" cy="3633840"/>
            <a:chOff x="6916320" y="-23760"/>
            <a:chExt cx="3270240" cy="3633840"/>
          </a:xfrm>
        </p:grpSpPr>
        <p:grpSp>
          <p:nvGrpSpPr>
            <p:cNvPr id="83" name=""/>
            <p:cNvGrpSpPr/>
            <p:nvPr/>
          </p:nvGrpSpPr>
          <p:grpSpPr>
            <a:xfrm>
              <a:off x="8342280" y="2756520"/>
              <a:ext cx="1107720" cy="831240"/>
              <a:chOff x="8342280" y="2756520"/>
              <a:chExt cx="1107720" cy="831240"/>
            </a:xfrm>
          </p:grpSpPr>
          <p:sp>
            <p:nvSpPr>
              <p:cNvPr id="84" name=""/>
              <p:cNvSpPr/>
              <p:nvPr/>
            </p:nvSpPr>
            <p:spPr>
              <a:xfrm>
                <a:off x="8342280" y="2756520"/>
                <a:ext cx="110772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740080" y="312012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597520" y="1591560"/>
              <a:ext cx="1108080" cy="831240"/>
              <a:chOff x="8597520" y="1591560"/>
              <a:chExt cx="1108080" cy="831240"/>
            </a:xfrm>
          </p:grpSpPr>
          <p:sp>
            <p:nvSpPr>
              <p:cNvPr id="87" name=""/>
              <p:cNvSpPr/>
              <p:nvPr/>
            </p:nvSpPr>
            <p:spPr>
              <a:xfrm>
                <a:off x="8597520" y="159156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995680" y="195516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977520" y="0"/>
              <a:ext cx="1108080" cy="831240"/>
              <a:chOff x="6977520" y="0"/>
              <a:chExt cx="1108080" cy="831240"/>
            </a:xfrm>
          </p:grpSpPr>
          <p:sp>
            <p:nvSpPr>
              <p:cNvPr id="90" name=""/>
              <p:cNvSpPr/>
              <p:nvPr/>
            </p:nvSpPr>
            <p:spPr>
              <a:xfrm>
                <a:off x="6977520" y="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75680" y="36360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916320" y="-23760"/>
              <a:ext cx="3270240" cy="3633840"/>
              <a:chOff x="6916320" y="-23760"/>
              <a:chExt cx="3270240" cy="363384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707240" y="444240"/>
                <a:ext cx="1652040" cy="1217880"/>
                <a:chOff x="7707240" y="444240"/>
                <a:chExt cx="1652040" cy="12178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707240" y="444240"/>
                  <a:ext cx="1652040" cy="121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338320" y="889560"/>
                  <a:ext cx="327600" cy="22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916320" y="-23760"/>
                <a:ext cx="3161520" cy="2501640"/>
                <a:chOff x="6916320" y="-23760"/>
                <a:chExt cx="3161520" cy="250164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8637120" y="929160"/>
                  <a:ext cx="1173240" cy="1258200"/>
                  <a:chOff x="8637120" y="929160"/>
                  <a:chExt cx="1173240" cy="12582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8555400" y="1248840"/>
                    <a:ext cx="97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9266040" y="1765440"/>
                    <a:ext cx="52308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8648640" y="849960"/>
                  <a:ext cx="1395000" cy="1160280"/>
                  <a:chOff x="8648640" y="849960"/>
                  <a:chExt cx="1395000" cy="116028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8611560" y="112680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9454320" y="1571400"/>
                    <a:ext cx="5508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8643960" y="811080"/>
                  <a:ext cx="1419480" cy="913320"/>
                  <a:chOff x="8643960" y="811080"/>
                  <a:chExt cx="1419480" cy="9133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8631000" y="1019880"/>
                    <a:ext cx="98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9504000" y="1352520"/>
                    <a:ext cx="526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8640360" y="767160"/>
                  <a:ext cx="1437480" cy="738360"/>
                  <a:chOff x="8640360" y="767160"/>
                  <a:chExt cx="1437480" cy="73836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8646480" y="909000"/>
                    <a:ext cx="94824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9534600" y="113616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8657280" y="725400"/>
                  <a:ext cx="1348920" cy="460440"/>
                  <a:chOff x="8657280" y="725400"/>
                  <a:chExt cx="1348920" cy="4604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8665200" y="783000"/>
                    <a:ext cx="8737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9520200" y="878400"/>
                    <a:ext cx="46944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8678520" y="697680"/>
                  <a:ext cx="1219680" cy="203400"/>
                  <a:chOff x="8678520" y="697680"/>
                  <a:chExt cx="1219680" cy="2034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8679600" y="713520"/>
                    <a:ext cx="7938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9469440" y="702720"/>
                    <a:ext cx="426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8649000" y="462240"/>
                  <a:ext cx="1084320" cy="361080"/>
                  <a:chOff x="8649000" y="462240"/>
                  <a:chExt cx="1084320" cy="3610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8653320" y="622800"/>
                    <a:ext cx="6976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9342000" y="502920"/>
                    <a:ext cx="3744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208280" y="998640"/>
                  <a:ext cx="1173600" cy="1258560"/>
                  <a:chOff x="7208280" y="998640"/>
                  <a:chExt cx="1173600" cy="12585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7487640" y="1318320"/>
                    <a:ext cx="9756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7229520" y="1834920"/>
                    <a:ext cx="52380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950160" y="949320"/>
                  <a:ext cx="1395360" cy="1160280"/>
                  <a:chOff x="6950160" y="949320"/>
                  <a:chExt cx="1395360" cy="1160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7355160" y="122616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988320" y="1671120"/>
                    <a:ext cx="5511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930720" y="911880"/>
                  <a:ext cx="1419480" cy="913680"/>
                  <a:chOff x="6930720" y="911880"/>
                  <a:chExt cx="1419480" cy="9136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7380720" y="1121040"/>
                    <a:ext cx="9817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962760" y="1453320"/>
                    <a:ext cx="5270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916320" y="868320"/>
                  <a:ext cx="1436760" cy="737640"/>
                  <a:chOff x="6916320" y="868320"/>
                  <a:chExt cx="1436760" cy="737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7398360" y="1010160"/>
                    <a:ext cx="9482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949080" y="123660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988320" y="826560"/>
                  <a:ext cx="1348200" cy="458640"/>
                  <a:chOff x="6988320" y="826560"/>
                  <a:chExt cx="1348200" cy="4586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7455240" y="884160"/>
                    <a:ext cx="873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7004520" y="979200"/>
                    <a:ext cx="46908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95960" y="797040"/>
                  <a:ext cx="1220040" cy="203760"/>
                  <a:chOff x="7095960" y="797040"/>
                  <a:chExt cx="1220040" cy="2037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7520040" y="813240"/>
                    <a:ext cx="7941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7097760" y="802080"/>
                    <a:ext cx="4262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260120" y="562320"/>
                  <a:ext cx="1084320" cy="360360"/>
                  <a:chOff x="7260120" y="562320"/>
                  <a:chExt cx="1084320" cy="3603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7641720" y="722520"/>
                    <a:ext cx="697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7276680" y="603000"/>
                    <a:ext cx="374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318440" y="430560"/>
                  <a:ext cx="1066320" cy="498240"/>
                  <a:chOff x="7318440" y="430560"/>
                  <a:chExt cx="1066320" cy="4982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7688880" y="684000"/>
                    <a:ext cx="69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7340040" y="491760"/>
                    <a:ext cx="3744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443720" y="245160"/>
                  <a:ext cx="995040" cy="691560"/>
                  <a:chOff x="7443720" y="245160"/>
                  <a:chExt cx="995040" cy="69156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765200" y="631440"/>
                    <a:ext cx="698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7464240" y="333000"/>
                    <a:ext cx="374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570800" y="63720"/>
                  <a:ext cx="911160" cy="839880"/>
                  <a:chOff x="7570800" y="63720"/>
                  <a:chExt cx="911160" cy="839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832880" y="551520"/>
                    <a:ext cx="707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7582680" y="169560"/>
                    <a:ext cx="3805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40440" y="17280"/>
                  <a:ext cx="669960" cy="865800"/>
                  <a:chOff x="7840440" y="17280"/>
                  <a:chExt cx="669960" cy="865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981560" y="525960"/>
                    <a:ext cx="6228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842240" y="114120"/>
                    <a:ext cx="33444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8034840" y="-23760"/>
                  <a:ext cx="513720" cy="891720"/>
                  <a:chOff x="8034840" y="-23760"/>
                  <a:chExt cx="513720" cy="8917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8083440" y="505800"/>
                    <a:ext cx="5994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8020800" y="65160"/>
                    <a:ext cx="322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8591760" y="299880"/>
                  <a:ext cx="1062000" cy="509760"/>
                  <a:chOff x="8591760" y="299880"/>
                  <a:chExt cx="1062000" cy="5097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8588880" y="561600"/>
                    <a:ext cx="6969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9257400" y="363240"/>
                    <a:ext cx="374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8530560" y="150120"/>
                  <a:ext cx="1009800" cy="666720"/>
                  <a:chOff x="8530560" y="150120"/>
                  <a:chExt cx="1009800" cy="666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8509680" y="519120"/>
                    <a:ext cx="6980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9142920" y="234720"/>
                    <a:ext cx="3747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8179920" y="536400"/>
                  <a:ext cx="581400" cy="8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8193240" y="110520"/>
                  <a:ext cx="311400" cy="129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8451000" y="-12960"/>
                  <a:ext cx="549000" cy="871920"/>
                  <a:chOff x="8451000" y="-12960"/>
                  <a:chExt cx="549000" cy="871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8327520" y="513720"/>
                    <a:ext cx="600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8695440" y="85680"/>
                    <a:ext cx="322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8448120" y="42480"/>
                  <a:ext cx="866160" cy="823680"/>
                  <a:chOff x="8448120" y="42480"/>
                  <a:chExt cx="866160" cy="8236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8402040" y="501120"/>
                    <a:ext cx="653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931600" y="132120"/>
                    <a:ext cx="35064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8498520" y="-1440"/>
                  <a:ext cx="195480" cy="822600"/>
                  <a:chOff x="8498520" y="-1440"/>
                  <a:chExt cx="195480" cy="8226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8291520" y="526680"/>
                    <a:ext cx="5389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520" bIns="25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8490960" y="109080"/>
                    <a:ext cx="2890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399440" y="1025280"/>
                  <a:ext cx="1006200" cy="1376280"/>
                  <a:chOff x="7399440" y="1025280"/>
                  <a:chExt cx="1006200" cy="13762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7562880" y="1384560"/>
                    <a:ext cx="974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7401960" y="1969920"/>
                    <a:ext cx="5227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733160" y="1079640"/>
                  <a:ext cx="679680" cy="1375560"/>
                  <a:chOff x="7733160" y="1079640"/>
                  <a:chExt cx="679680" cy="13755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7707960" y="1441800"/>
                    <a:ext cx="902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7710840" y="2040120"/>
                    <a:ext cx="4838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8061120" y="1104120"/>
                  <a:ext cx="401040" cy="1342080"/>
                  <a:chOff x="8061120" y="1104120"/>
                  <a:chExt cx="401040" cy="13420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867440" y="1464480"/>
                    <a:ext cx="8654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995960" y="2068920"/>
                    <a:ext cx="464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8598240" y="1002600"/>
                  <a:ext cx="1047240" cy="1355040"/>
                  <a:chOff x="8598240" y="1002600"/>
                  <a:chExt cx="1047240" cy="1355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8478000" y="1354320"/>
                    <a:ext cx="975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9114120" y="1926720"/>
                    <a:ext cx="5230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8584200" y="1053720"/>
                  <a:ext cx="807840" cy="1391400"/>
                  <a:chOff x="8584200" y="1053720"/>
                  <a:chExt cx="807840" cy="13914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8408520" y="1421640"/>
                    <a:ext cx="93348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907840" y="2028600"/>
                    <a:ext cx="500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8552160" y="1108080"/>
                  <a:ext cx="562320" cy="1369800"/>
                  <a:chOff x="8552160" y="1108080"/>
                  <a:chExt cx="562320" cy="13698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8309520" y="1489320"/>
                    <a:ext cx="905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8690760" y="2103480"/>
                    <a:ext cx="485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8525880" y="1167120"/>
                  <a:ext cx="320040" cy="1274400"/>
                  <a:chOff x="8525880" y="1167120"/>
                  <a:chExt cx="320040" cy="12744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8238960" y="1519200"/>
                    <a:ext cx="8323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8481960" y="2095200"/>
                    <a:ext cx="44676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8268840" y="1188360"/>
                  <a:ext cx="304920" cy="1247400"/>
                  <a:chOff x="8268840" y="1188360"/>
                  <a:chExt cx="304920" cy="12474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8071920" y="1545120"/>
                    <a:ext cx="813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8156160" y="2126520"/>
                    <a:ext cx="4363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8043120" y="1347840"/>
                <a:ext cx="275400" cy="836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45240" y="1005120"/>
                <a:ext cx="2402280" cy="260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8479080" y="257760"/>
                <a:ext cx="1707480" cy="231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666560" y="837000"/>
                <a:ext cx="104796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168680" y="906120"/>
                <a:ext cx="1616760" cy="260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068240" y="660960"/>
                <a:ext cx="1685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505720" y="849600"/>
                <a:ext cx="266040" cy="260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476920" y="844200"/>
                <a:ext cx="704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70080" y="668160"/>
                <a:ext cx="100008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818560" y="1490400"/>
                <a:ext cx="273960" cy="83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8391240" y="1215360"/>
                <a:ext cx="249120" cy="47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991920" y="460080"/>
                <a:ext cx="168480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7135920" y="177120"/>
                <a:ext cx="1416600" cy="260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397720" y="724320"/>
                <a:ext cx="597600" cy="260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7226280" y="1416600"/>
                <a:ext cx="61308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515720" y="504720"/>
                <a:ext cx="393840" cy="86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967880" y="248040"/>
                <a:ext cx="23652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439920" y="1289880"/>
                <a:ext cx="569880" cy="90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360" y="830880"/>
                <a:ext cx="8582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176040" y="190440"/>
                <a:ext cx="375120" cy="810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8805240" y="863640"/>
                <a:ext cx="25092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913880" y="851040"/>
                <a:ext cx="24948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3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4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5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DE0C69C-BAC3-4D34-8448-E809A033B881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216160" y="270000"/>
            <a:ext cx="7859160" cy="8733960"/>
            <a:chOff x="2216160" y="270000"/>
            <a:chExt cx="7859160" cy="8733960"/>
          </a:xfrm>
        </p:grpSpPr>
        <p:grpSp>
          <p:nvGrpSpPr>
            <p:cNvPr id="259" name=""/>
            <p:cNvGrpSpPr/>
            <p:nvPr/>
          </p:nvGrpSpPr>
          <p:grpSpPr>
            <a:xfrm>
              <a:off x="3839040" y="1050840"/>
              <a:ext cx="1042920" cy="781920"/>
              <a:chOff x="3839040" y="1050840"/>
              <a:chExt cx="1042920" cy="781920"/>
            </a:xfrm>
          </p:grpSpPr>
          <p:sp>
            <p:nvSpPr>
              <p:cNvPr id="260" name=""/>
              <p:cNvSpPr/>
              <p:nvPr/>
            </p:nvSpPr>
            <p:spPr>
              <a:xfrm>
                <a:off x="3839040" y="1050840"/>
                <a:ext cx="1042920" cy="781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13440" y="1392840"/>
                <a:ext cx="250920" cy="1465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16160" y="270000"/>
              <a:ext cx="7859160" cy="8494920"/>
              <a:chOff x="2216160" y="270000"/>
              <a:chExt cx="7859160" cy="84949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216160" y="270000"/>
                <a:ext cx="7597800" cy="6009840"/>
                <a:chOff x="2216160" y="270000"/>
                <a:chExt cx="7597800" cy="600984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4117680" y="1395000"/>
                  <a:ext cx="3968640" cy="2923560"/>
                  <a:chOff x="4117680" y="1395000"/>
                  <a:chExt cx="3968640" cy="29235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4117680" y="1395000"/>
                    <a:ext cx="3968640" cy="292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33640" y="2464560"/>
                    <a:ext cx="786960" cy="55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216160" y="270000"/>
                  <a:ext cx="7597800" cy="6009840"/>
                  <a:chOff x="2216160" y="270000"/>
                  <a:chExt cx="7597800" cy="600984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6352920" y="2558880"/>
                    <a:ext cx="2820240" cy="3023640"/>
                    <a:chOff x="6352920" y="2558880"/>
                    <a:chExt cx="2820240" cy="30236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6157440" y="332748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865280" y="456876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6379920" y="2367360"/>
                    <a:ext cx="3352680" cy="2788920"/>
                    <a:chOff x="6379920" y="2367360"/>
                    <a:chExt cx="3352680" cy="278892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6291360" y="3032640"/>
                      <a:ext cx="246636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8315640" y="4102200"/>
                      <a:ext cx="1324080" cy="74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6367320" y="2275920"/>
                    <a:ext cx="3414240" cy="2197080"/>
                    <a:chOff x="6367320" y="2275920"/>
                    <a:chExt cx="3414240" cy="21970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6336000" y="2778480"/>
                      <a:ext cx="236016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8436600" y="357804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6358320" y="2171520"/>
                    <a:ext cx="3455640" cy="1772280"/>
                    <a:chOff x="6358320" y="2171520"/>
                    <a:chExt cx="3455640" cy="17722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6372720" y="2512440"/>
                      <a:ext cx="2279880" cy="45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8508960" y="3057480"/>
                      <a:ext cx="1224720" cy="71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6400440" y="2071440"/>
                    <a:ext cx="3242520" cy="1104480"/>
                    <a:chOff x="6400440" y="2071440"/>
                    <a:chExt cx="3242520" cy="11044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6419160" y="2210400"/>
                      <a:ext cx="210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8474400" y="2439000"/>
                      <a:ext cx="1128600" cy="66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6450480" y="2000880"/>
                    <a:ext cx="2931480" cy="491400"/>
                    <a:chOff x="6450480" y="2000880"/>
                    <a:chExt cx="2931480" cy="4914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6453720" y="2040120"/>
                      <a:ext cx="19083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8351280" y="201312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6381000" y="1437120"/>
                    <a:ext cx="2606400" cy="867960"/>
                    <a:chOff x="6381000" y="1437120"/>
                    <a:chExt cx="2606400" cy="8679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6391800" y="18230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8046360" y="1535040"/>
                      <a:ext cx="9000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17440" y="2726280"/>
                    <a:ext cx="2818440" cy="3022200"/>
                    <a:chOff x="2917440" y="2726280"/>
                    <a:chExt cx="2818440" cy="3022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588120" y="3494880"/>
                      <a:ext cx="2343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967480" y="473472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297880" y="2607840"/>
                    <a:ext cx="3352320" cy="2788920"/>
                    <a:chOff x="2297880" y="2607840"/>
                    <a:chExt cx="3352320" cy="27889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3272040" y="3273120"/>
                      <a:ext cx="246600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390040" y="4342320"/>
                      <a:ext cx="1324080" cy="74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248920" y="2516400"/>
                    <a:ext cx="3414600" cy="2197080"/>
                    <a:chOff x="2248920" y="2516400"/>
                    <a:chExt cx="3414600" cy="21970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333960" y="3018960"/>
                      <a:ext cx="236052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326680" y="381852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216160" y="2411640"/>
                    <a:ext cx="3455640" cy="1772640"/>
                    <a:chOff x="2216160" y="2411640"/>
                    <a:chExt cx="3455640" cy="17726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376440" y="2752560"/>
                      <a:ext cx="2280240" cy="45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296080" y="3297240"/>
                      <a:ext cx="1224360" cy="71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387880" y="2311560"/>
                    <a:ext cx="3242160" cy="1104840"/>
                    <a:chOff x="2387880" y="2311560"/>
                    <a:chExt cx="3242160" cy="11048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510360" y="2450520"/>
                      <a:ext cx="210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427120" y="2679120"/>
                      <a:ext cx="1128240" cy="6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9240" y="2241360"/>
                    <a:ext cx="2931480" cy="491400"/>
                    <a:chOff x="2649240" y="2241360"/>
                    <a:chExt cx="2931480" cy="49140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668760" y="2280960"/>
                      <a:ext cx="190872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654640" y="225360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3043080" y="1677600"/>
                    <a:ext cx="2605680" cy="867960"/>
                    <a:chOff x="3043080" y="1677600"/>
                    <a:chExt cx="2605680" cy="86796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961080" y="206352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3083760" y="1775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3182400" y="1362960"/>
                    <a:ext cx="2563560" cy="1194480"/>
                    <a:chOff x="3182400" y="1362960"/>
                    <a:chExt cx="2563560" cy="1194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4073400" y="1970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3234600" y="1510560"/>
                      <a:ext cx="90000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483360" y="915480"/>
                    <a:ext cx="2393640" cy="1662840"/>
                    <a:chOff x="3483360" y="915480"/>
                    <a:chExt cx="2393640" cy="16628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4260960" y="1844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534480" y="1126800"/>
                      <a:ext cx="899640" cy="45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789720" y="480240"/>
                    <a:ext cx="2190960" cy="2019240"/>
                    <a:chOff x="3789720" y="480240"/>
                    <a:chExt cx="2190960" cy="2019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420080" y="1654200"/>
                      <a:ext cx="17006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819600" y="734040"/>
                      <a:ext cx="9133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439520" y="369000"/>
                    <a:ext cx="1610280" cy="2079360"/>
                    <a:chOff x="4439520" y="369000"/>
                    <a:chExt cx="1610280" cy="207936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780800" y="1591200"/>
                      <a:ext cx="14954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445640" y="601560"/>
                      <a:ext cx="803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03560" y="270000"/>
                    <a:ext cx="1237320" cy="2145960"/>
                    <a:chOff x="4903560" y="270000"/>
                    <a:chExt cx="1237320" cy="21459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5022000" y="1544400"/>
                      <a:ext cx="144216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869720" y="484560"/>
                      <a:ext cx="77472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6241680" y="1049760"/>
                    <a:ext cx="2554200" cy="1225440"/>
                    <a:chOff x="6241680" y="1049760"/>
                    <a:chExt cx="2554200" cy="12254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6234840" y="167868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842960" y="120204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6095880" y="689760"/>
                    <a:ext cx="2423880" cy="1599840"/>
                    <a:chOff x="6095880" y="689760"/>
                    <a:chExt cx="2423880" cy="15998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6045480" y="157536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7566840" y="893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5254200" y="1616040"/>
                    <a:ext cx="139572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5285520" y="593280"/>
                    <a:ext cx="75024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904360" y="297000"/>
                    <a:ext cx="1318680" cy="2095560"/>
                    <a:chOff x="5904360" y="297000"/>
                    <a:chExt cx="1318680" cy="20955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608080" y="1562760"/>
                      <a:ext cx="14436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6490800" y="534600"/>
                      <a:ext cx="774360" cy="39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895360" y="428400"/>
                    <a:ext cx="2085120" cy="1980360"/>
                    <a:chOff x="5895360" y="428400"/>
                    <a:chExt cx="2085120" cy="19803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785200" y="1530720"/>
                      <a:ext cx="156996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7060320" y="643680"/>
                      <a:ext cx="84240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6017040" y="322200"/>
                    <a:ext cx="471600" cy="1979280"/>
                    <a:chOff x="6017040" y="322200"/>
                    <a:chExt cx="471600" cy="197928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519880" y="1593360"/>
                      <a:ext cx="129600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999760" y="587880"/>
                      <a:ext cx="69588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376080" y="2788560"/>
                    <a:ext cx="2420280" cy="3310560"/>
                    <a:chOff x="3376080" y="2788560"/>
                    <a:chExt cx="2420280" cy="33105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770280" y="3652560"/>
                      <a:ext cx="23428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383640" y="506124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179240" y="2921400"/>
                    <a:ext cx="1634400" cy="3306600"/>
                    <a:chOff x="4179240" y="2921400"/>
                    <a:chExt cx="1634400" cy="3306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4120200" y="3792240"/>
                      <a:ext cx="21679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4127040" y="5230080"/>
                      <a:ext cx="1163160" cy="66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970160" y="2979000"/>
                    <a:ext cx="963360" cy="3226680"/>
                    <a:chOff x="4970160" y="2979000"/>
                    <a:chExt cx="963360" cy="322668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505040" y="3845160"/>
                      <a:ext cx="2079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814640" y="5300280"/>
                      <a:ext cx="111564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6260040" y="2736360"/>
                    <a:ext cx="2514240" cy="3255120"/>
                    <a:chOff x="6260040" y="2736360"/>
                    <a:chExt cx="2514240" cy="32551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970960" y="358164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7498080" y="495720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6226200" y="2858400"/>
                    <a:ext cx="1938600" cy="3342600"/>
                    <a:chOff x="6226200" y="2858400"/>
                    <a:chExt cx="1938600" cy="334260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804280" y="3742920"/>
                      <a:ext cx="224244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7002360" y="5201640"/>
                      <a:ext cx="1202760" cy="6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6147000" y="2987280"/>
                    <a:ext cx="1351080" cy="3292560"/>
                    <a:chOff x="6147000" y="2987280"/>
                    <a:chExt cx="1351080" cy="32925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563800" y="3904560"/>
                      <a:ext cx="21758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6479640" y="5380560"/>
                      <a:ext cx="116748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6086880" y="3130560"/>
                    <a:ext cx="768600" cy="3062160"/>
                    <a:chOff x="6086880" y="3130560"/>
                    <a:chExt cx="768600" cy="306216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5397480" y="3976560"/>
                      <a:ext cx="19994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980680" y="5361120"/>
                      <a:ext cx="1073880" cy="52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5468760" y="3182400"/>
                    <a:ext cx="731520" cy="2995200"/>
                    <a:chOff x="5468760" y="3182400"/>
                    <a:chExt cx="731520" cy="299520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995720" y="4039200"/>
                      <a:ext cx="195336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5197680" y="5435280"/>
                      <a:ext cx="104796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397240" y="752040"/>
                <a:ext cx="7678080" cy="8012880"/>
                <a:chOff x="2397240" y="752040"/>
                <a:chExt cx="7678080" cy="801288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397240" y="752040"/>
                  <a:ext cx="7678080" cy="8012880"/>
                  <a:chOff x="2397240" y="752040"/>
                  <a:chExt cx="7678080" cy="80128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971320" y="945360"/>
                    <a:ext cx="4104000" cy="55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823840" y="2502720"/>
                    <a:ext cx="38847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948280" y="1931760"/>
                    <a:ext cx="24051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396880" y="1431360"/>
                    <a:ext cx="40503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743200" y="752040"/>
                    <a:ext cx="34074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774040" y="2067480"/>
                    <a:ext cx="14400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744440" y="921600"/>
                    <a:ext cx="568080" cy="20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756480" y="2404080"/>
                  <a:ext cx="600840" cy="11376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582280" y="785160"/>
              <a:ext cx="7067520" cy="8218800"/>
              <a:chOff x="2582280" y="785160"/>
              <a:chExt cx="7067520" cy="821880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926240" y="356508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728880" y="2741040"/>
                <a:ext cx="57697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017960" y="2338560"/>
                <a:ext cx="25243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582280" y="1914840"/>
                <a:ext cx="4050000" cy="626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33600" y="2370240"/>
                <a:ext cx="6418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65560" y="2355120"/>
                <a:ext cx="16930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84920" y="390924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758560" y="3249720"/>
                <a:ext cx="600480" cy="113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961360" y="3731040"/>
                <a:ext cx="14752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656520" y="1540800"/>
                <a:ext cx="9460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280720" y="3426480"/>
                <a:ext cx="1369080" cy="217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9720" y="2325240"/>
                <a:ext cx="2063880" cy="145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5680" y="785160"/>
                <a:ext cx="901080" cy="194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610520" y="2374200"/>
                <a:ext cx="600840" cy="113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6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7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8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36832D0-D7A5-48D7-9DB5-107B94205659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6916320" y="-23760"/>
            <a:ext cx="3270240" cy="3633840"/>
            <a:chOff x="6916320" y="-23760"/>
            <a:chExt cx="3270240" cy="3633840"/>
          </a:xfrm>
        </p:grpSpPr>
        <p:grpSp>
          <p:nvGrpSpPr>
            <p:cNvPr id="432" name=""/>
            <p:cNvGrpSpPr/>
            <p:nvPr/>
          </p:nvGrpSpPr>
          <p:grpSpPr>
            <a:xfrm>
              <a:off x="8342280" y="2756520"/>
              <a:ext cx="1107720" cy="831240"/>
              <a:chOff x="8342280" y="2756520"/>
              <a:chExt cx="1107720" cy="831240"/>
            </a:xfrm>
          </p:grpSpPr>
          <p:sp>
            <p:nvSpPr>
              <p:cNvPr id="433" name=""/>
              <p:cNvSpPr/>
              <p:nvPr/>
            </p:nvSpPr>
            <p:spPr>
              <a:xfrm>
                <a:off x="8342280" y="2756520"/>
                <a:ext cx="110772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740080" y="312012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8597520" y="1591560"/>
              <a:ext cx="1108080" cy="831240"/>
              <a:chOff x="8597520" y="1591560"/>
              <a:chExt cx="1108080" cy="83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8597520" y="159156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5680" y="195516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977520" y="0"/>
              <a:ext cx="1108080" cy="831240"/>
              <a:chOff x="6977520" y="0"/>
              <a:chExt cx="1108080" cy="831240"/>
            </a:xfrm>
          </p:grpSpPr>
          <p:sp>
            <p:nvSpPr>
              <p:cNvPr id="439" name=""/>
              <p:cNvSpPr/>
              <p:nvPr/>
            </p:nvSpPr>
            <p:spPr>
              <a:xfrm>
                <a:off x="6977520" y="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75680" y="36360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916320" y="-23760"/>
              <a:ext cx="3270240" cy="3633840"/>
              <a:chOff x="6916320" y="-23760"/>
              <a:chExt cx="3270240" cy="363384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7707240" y="444240"/>
                <a:ext cx="1652040" cy="1217880"/>
                <a:chOff x="7707240" y="444240"/>
                <a:chExt cx="1652040" cy="12178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707240" y="444240"/>
                  <a:ext cx="1652040" cy="121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338320" y="889560"/>
                  <a:ext cx="327600" cy="22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916320" y="-23760"/>
                <a:ext cx="3161520" cy="2501640"/>
                <a:chOff x="6916320" y="-23760"/>
                <a:chExt cx="3161520" cy="250164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8637120" y="929160"/>
                  <a:ext cx="1173240" cy="1258200"/>
                  <a:chOff x="8637120" y="929160"/>
                  <a:chExt cx="1173240" cy="12582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2711400">
                    <a:off x="8555400" y="1248840"/>
                    <a:ext cx="97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2711400">
                    <a:off x="9266040" y="1765440"/>
                    <a:ext cx="52308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648640" y="849960"/>
                  <a:ext cx="1395000" cy="1160280"/>
                  <a:chOff x="8648640" y="849960"/>
                  <a:chExt cx="1395000" cy="11602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2103600">
                    <a:off x="8611560" y="112680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2103600">
                    <a:off x="9454320" y="1571400"/>
                    <a:ext cx="5508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8643960" y="811080"/>
                  <a:ext cx="1419480" cy="913320"/>
                  <a:chOff x="8643960" y="811080"/>
                  <a:chExt cx="1419480" cy="9133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582800">
                    <a:off x="8631000" y="1019880"/>
                    <a:ext cx="98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1582800">
                    <a:off x="9504000" y="1352520"/>
                    <a:ext cx="526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8640360" y="767160"/>
                  <a:ext cx="1437480" cy="738360"/>
                  <a:chOff x="8640360" y="767160"/>
                  <a:chExt cx="1437480" cy="7383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080000">
                    <a:off x="8646480" y="909000"/>
                    <a:ext cx="94824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080000">
                    <a:off x="9534600" y="113616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8657280" y="725400"/>
                  <a:ext cx="1348920" cy="460440"/>
                  <a:chOff x="8657280" y="725400"/>
                  <a:chExt cx="1348920" cy="4604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463200">
                    <a:off x="8665200" y="783000"/>
                    <a:ext cx="8737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463200">
                    <a:off x="9520200" y="878400"/>
                    <a:ext cx="46944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8678520" y="697680"/>
                  <a:ext cx="1219680" cy="203400"/>
                  <a:chOff x="8678520" y="697680"/>
                  <a:chExt cx="1219680" cy="2034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1515400">
                    <a:off x="8679600" y="713520"/>
                    <a:ext cx="7938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1515400">
                    <a:off x="9469440" y="702720"/>
                    <a:ext cx="426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8649000" y="462240"/>
                  <a:ext cx="1084320" cy="361080"/>
                  <a:chOff x="8649000" y="462240"/>
                  <a:chExt cx="1084320" cy="3610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20797200">
                    <a:off x="8653320" y="622800"/>
                    <a:ext cx="6976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20797200">
                    <a:off x="9342000" y="502920"/>
                    <a:ext cx="3744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7208280" y="998640"/>
                  <a:ext cx="1173600" cy="1258560"/>
                  <a:chOff x="7208280" y="998640"/>
                  <a:chExt cx="1173600" cy="12585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18888600">
                    <a:off x="7487640" y="1318320"/>
                    <a:ext cx="9756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18888600">
                    <a:off x="7229520" y="1834920"/>
                    <a:ext cx="52380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950160" y="949320"/>
                  <a:ext cx="1395360" cy="1160280"/>
                  <a:chOff x="6950160" y="949320"/>
                  <a:chExt cx="1395360" cy="11602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19496400">
                    <a:off x="7355160" y="122616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19496400">
                    <a:off x="6988320" y="1671120"/>
                    <a:ext cx="5511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930720" y="911880"/>
                  <a:ext cx="1419480" cy="913680"/>
                  <a:chOff x="6930720" y="911880"/>
                  <a:chExt cx="1419480" cy="9136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20017200">
                    <a:off x="7380720" y="1121040"/>
                    <a:ext cx="9817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20017200">
                    <a:off x="6962760" y="1453320"/>
                    <a:ext cx="5270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6916320" y="868320"/>
                  <a:ext cx="1436760" cy="737640"/>
                  <a:chOff x="6916320" y="868320"/>
                  <a:chExt cx="1436760" cy="737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20520000">
                    <a:off x="7398360" y="1010160"/>
                    <a:ext cx="9482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20520000">
                    <a:off x="6949080" y="123660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6988320" y="826560"/>
                  <a:ext cx="1348200" cy="458640"/>
                  <a:chOff x="6988320" y="826560"/>
                  <a:chExt cx="1348200" cy="4586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21136800">
                    <a:off x="7455240" y="884160"/>
                    <a:ext cx="873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21136800">
                    <a:off x="7004520" y="979200"/>
                    <a:ext cx="46908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095960" y="797040"/>
                  <a:ext cx="1220040" cy="203760"/>
                  <a:chOff x="7095960" y="797040"/>
                  <a:chExt cx="1220040" cy="2037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84600">
                    <a:off x="7520040" y="813240"/>
                    <a:ext cx="7941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84600">
                    <a:off x="7097760" y="802080"/>
                    <a:ext cx="4262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260120" y="562320"/>
                  <a:ext cx="1084320" cy="360360"/>
                  <a:chOff x="7260120" y="562320"/>
                  <a:chExt cx="1084320" cy="3603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802800">
                    <a:off x="7641720" y="722520"/>
                    <a:ext cx="697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802800">
                    <a:off x="7276680" y="603000"/>
                    <a:ext cx="374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318440" y="430560"/>
                  <a:ext cx="1066320" cy="498240"/>
                  <a:chOff x="7318440" y="430560"/>
                  <a:chExt cx="1066320" cy="4982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rot="1278000">
                    <a:off x="7688880" y="684000"/>
                    <a:ext cx="69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rot="1278000">
                    <a:off x="7340040" y="491760"/>
                    <a:ext cx="3744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443720" y="245160"/>
                  <a:ext cx="995040" cy="691560"/>
                  <a:chOff x="7443720" y="245160"/>
                  <a:chExt cx="995040" cy="69156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2028600">
                    <a:off x="7765200" y="631440"/>
                    <a:ext cx="698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2028600">
                    <a:off x="7464240" y="333000"/>
                    <a:ext cx="374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7570800" y="63720"/>
                  <a:ext cx="911160" cy="839880"/>
                  <a:chOff x="7570800" y="63720"/>
                  <a:chExt cx="911160" cy="8398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rot="2664600">
                    <a:off x="7832880" y="551520"/>
                    <a:ext cx="707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2664600">
                    <a:off x="7582680" y="169560"/>
                    <a:ext cx="3805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840440" y="17280"/>
                  <a:ext cx="669960" cy="865800"/>
                  <a:chOff x="7840440" y="17280"/>
                  <a:chExt cx="669960" cy="8658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flipH="1" rot="3474000">
                    <a:off x="7981560" y="525960"/>
                    <a:ext cx="6228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H="1" rot="3474000">
                    <a:off x="7842240" y="114120"/>
                    <a:ext cx="33444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8034840" y="-23760"/>
                  <a:ext cx="513720" cy="891720"/>
                  <a:chOff x="8034840" y="-23760"/>
                  <a:chExt cx="513720" cy="8917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rot="4126800">
                    <a:off x="8083440" y="505800"/>
                    <a:ext cx="5994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 rot="4126800">
                    <a:off x="8020800" y="65160"/>
                    <a:ext cx="322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8591760" y="299880"/>
                  <a:ext cx="1062000" cy="509760"/>
                  <a:chOff x="8591760" y="299880"/>
                  <a:chExt cx="1062000" cy="5097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20274000">
                    <a:off x="8588880" y="561600"/>
                    <a:ext cx="6969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20274000">
                    <a:off x="9257400" y="363240"/>
                    <a:ext cx="374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8530560" y="150120"/>
                  <a:ext cx="1009800" cy="666720"/>
                  <a:chOff x="8530560" y="150120"/>
                  <a:chExt cx="1009800" cy="6667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19678800">
                    <a:off x="8509680" y="519120"/>
                    <a:ext cx="6980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9678800">
                    <a:off x="9142920" y="234720"/>
                    <a:ext cx="3747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9" name=""/>
                <p:cNvSpPr/>
                <p:nvPr/>
              </p:nvSpPr>
              <p:spPr>
                <a:xfrm flipH="1" rot="4578600">
                  <a:off x="8179920" y="536400"/>
                  <a:ext cx="581400" cy="8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 rot="4578600">
                  <a:off x="8193240" y="110520"/>
                  <a:ext cx="311400" cy="129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8451000" y="-12960"/>
                  <a:ext cx="549000" cy="871920"/>
                  <a:chOff x="8451000" y="-12960"/>
                  <a:chExt cx="549000" cy="8719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17742000">
                    <a:off x="8327520" y="513720"/>
                    <a:ext cx="600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17742000">
                    <a:off x="8695440" y="85680"/>
                    <a:ext cx="322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8448120" y="42480"/>
                  <a:ext cx="866160" cy="823680"/>
                  <a:chOff x="8448120" y="42480"/>
                  <a:chExt cx="866160" cy="8236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18822600">
                    <a:off x="8402040" y="501120"/>
                    <a:ext cx="653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822600">
                    <a:off x="8931600" y="132120"/>
                    <a:ext cx="35064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8498520" y="-1440"/>
                  <a:ext cx="195480" cy="822600"/>
                  <a:chOff x="8498520" y="-1440"/>
                  <a:chExt cx="195480" cy="8226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16696200">
                    <a:off x="8291520" y="526680"/>
                    <a:ext cx="5389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520" bIns="25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696200">
                    <a:off x="8490960" y="109080"/>
                    <a:ext cx="2890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399440" y="1025280"/>
                  <a:ext cx="1006200" cy="1376280"/>
                  <a:chOff x="7399440" y="1025280"/>
                  <a:chExt cx="1006200" cy="13762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8336000">
                    <a:off x="7562880" y="1384560"/>
                    <a:ext cx="974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8336000">
                    <a:off x="7401960" y="1969920"/>
                    <a:ext cx="5227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733160" y="1079640"/>
                  <a:ext cx="679680" cy="1375560"/>
                  <a:chOff x="7733160" y="1079640"/>
                  <a:chExt cx="679680" cy="13755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7543400">
                    <a:off x="7707960" y="1441800"/>
                    <a:ext cx="902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7543400">
                    <a:off x="7710840" y="2040120"/>
                    <a:ext cx="4838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8061120" y="1104120"/>
                  <a:ext cx="401040" cy="1342080"/>
                  <a:chOff x="8061120" y="1104120"/>
                  <a:chExt cx="401040" cy="134208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16870800">
                    <a:off x="7867440" y="1464480"/>
                    <a:ext cx="8654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16870800">
                    <a:off x="7995960" y="2068920"/>
                    <a:ext cx="464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8598240" y="1002600"/>
                  <a:ext cx="1047240" cy="1355040"/>
                  <a:chOff x="8598240" y="1002600"/>
                  <a:chExt cx="1047240" cy="135504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3144000">
                    <a:off x="8478000" y="1354320"/>
                    <a:ext cx="975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3144000">
                    <a:off x="9114120" y="1926720"/>
                    <a:ext cx="5230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8584200" y="1053720"/>
                  <a:ext cx="807840" cy="1391400"/>
                  <a:chOff x="8584200" y="1053720"/>
                  <a:chExt cx="807840" cy="13914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3745200">
                    <a:off x="8408520" y="1421640"/>
                    <a:ext cx="93348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3745200">
                    <a:off x="8907840" y="2028600"/>
                    <a:ext cx="500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8552160" y="1108080"/>
                  <a:ext cx="562320" cy="1369800"/>
                  <a:chOff x="8552160" y="1108080"/>
                  <a:chExt cx="562320" cy="13698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4286400">
                    <a:off x="8309520" y="1489320"/>
                    <a:ext cx="905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4286400">
                    <a:off x="8690760" y="2103480"/>
                    <a:ext cx="485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8525880" y="1167120"/>
                  <a:ext cx="320040" cy="1274400"/>
                  <a:chOff x="8525880" y="1167120"/>
                  <a:chExt cx="320040" cy="12744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4898400">
                    <a:off x="8238960" y="1519200"/>
                    <a:ext cx="8323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4898400">
                    <a:off x="8481960" y="2095200"/>
                    <a:ext cx="44676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8268840" y="1188360"/>
                  <a:ext cx="304920" cy="1247400"/>
                  <a:chOff x="8268840" y="1188360"/>
                  <a:chExt cx="304920" cy="12474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5755200">
                    <a:off x="8071920" y="1545120"/>
                    <a:ext cx="813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5755200">
                    <a:off x="8156160" y="2126520"/>
                    <a:ext cx="4363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4" name=""/>
              <p:cNvSpPr/>
              <p:nvPr/>
            </p:nvSpPr>
            <p:spPr>
              <a:xfrm flipH="1">
                <a:off x="8043120" y="1347840"/>
                <a:ext cx="275400" cy="836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7545240" y="1005120"/>
                <a:ext cx="2402280" cy="260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8479080" y="257760"/>
                <a:ext cx="1707480" cy="231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66560" y="837000"/>
                <a:ext cx="104796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168680" y="906120"/>
                <a:ext cx="1616760" cy="260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068240" y="660960"/>
                <a:ext cx="1685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505720" y="849600"/>
                <a:ext cx="266040" cy="260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76920" y="844200"/>
                <a:ext cx="70452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470080" y="668160"/>
                <a:ext cx="100008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818560" y="1490400"/>
                <a:ext cx="273960" cy="83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 rot="19660800">
                <a:off x="8391240" y="1215360"/>
                <a:ext cx="249120" cy="47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6991920" y="460080"/>
                <a:ext cx="1684800" cy="260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7135920" y="177120"/>
                <a:ext cx="1416600" cy="260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97720" y="724320"/>
                <a:ext cx="597600" cy="260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226280" y="1416600"/>
                <a:ext cx="61308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7515720" y="504720"/>
                <a:ext cx="393840" cy="86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7967880" y="248040"/>
                <a:ext cx="23652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439920" y="1289880"/>
                <a:ext cx="569880" cy="90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9144360" y="830880"/>
                <a:ext cx="8582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176040" y="190440"/>
                <a:ext cx="375120" cy="810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253000">
                <a:off x="8805240" y="863640"/>
                <a:ext cx="25092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rot="1347000">
                <a:off x="7913880" y="851040"/>
                <a:ext cx="24948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9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10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11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6CC9C5B-D3A2-4D31-9051-8B6FA013BA59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2216160" y="270000"/>
            <a:ext cx="7859160" cy="8733960"/>
            <a:chOff x="2216160" y="270000"/>
            <a:chExt cx="7859160" cy="8733960"/>
          </a:xfrm>
        </p:grpSpPr>
        <p:grpSp>
          <p:nvGrpSpPr>
            <p:cNvPr id="608" name=""/>
            <p:cNvGrpSpPr/>
            <p:nvPr/>
          </p:nvGrpSpPr>
          <p:grpSpPr>
            <a:xfrm>
              <a:off x="3839040" y="1050840"/>
              <a:ext cx="1042920" cy="781920"/>
              <a:chOff x="3839040" y="1050840"/>
              <a:chExt cx="1042920" cy="781920"/>
            </a:xfrm>
          </p:grpSpPr>
          <p:sp>
            <p:nvSpPr>
              <p:cNvPr id="609" name=""/>
              <p:cNvSpPr/>
              <p:nvPr/>
            </p:nvSpPr>
            <p:spPr>
              <a:xfrm>
                <a:off x="3839040" y="1050840"/>
                <a:ext cx="1042920" cy="781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13440" y="1392840"/>
                <a:ext cx="250920" cy="1465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16160" y="270000"/>
              <a:ext cx="7859160" cy="8494920"/>
              <a:chOff x="2216160" y="270000"/>
              <a:chExt cx="7859160" cy="849492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2216160" y="270000"/>
                <a:ext cx="7597800" cy="6009840"/>
                <a:chOff x="2216160" y="270000"/>
                <a:chExt cx="7597800" cy="600984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4117680" y="1395000"/>
                  <a:ext cx="3968640" cy="2923560"/>
                  <a:chOff x="4117680" y="1395000"/>
                  <a:chExt cx="3968640" cy="29235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4117680" y="1395000"/>
                    <a:ext cx="3968640" cy="292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633640" y="2464560"/>
                    <a:ext cx="786960" cy="55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2216160" y="270000"/>
                  <a:ext cx="7597800" cy="6009840"/>
                  <a:chOff x="2216160" y="270000"/>
                  <a:chExt cx="7597800" cy="600984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6352920" y="2558880"/>
                    <a:ext cx="2820240" cy="3023640"/>
                    <a:chOff x="6352920" y="2558880"/>
                    <a:chExt cx="2820240" cy="302364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2711400">
                      <a:off x="6157440" y="332748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2711400">
                      <a:off x="7865280" y="456876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6379920" y="2367360"/>
                    <a:ext cx="3352680" cy="2788920"/>
                    <a:chOff x="6379920" y="2367360"/>
                    <a:chExt cx="3352680" cy="27889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2103600">
                      <a:off x="6291360" y="3032640"/>
                      <a:ext cx="246636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2103600">
                      <a:off x="8315640" y="4102200"/>
                      <a:ext cx="1324080" cy="74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6367320" y="2275920"/>
                    <a:ext cx="3414240" cy="2197080"/>
                    <a:chOff x="6367320" y="2275920"/>
                    <a:chExt cx="3414240" cy="219708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1582800">
                      <a:off x="6336000" y="2778480"/>
                      <a:ext cx="236016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1582800">
                      <a:off x="8436600" y="357804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6358320" y="2171520"/>
                    <a:ext cx="3455640" cy="1772280"/>
                    <a:chOff x="6358320" y="2171520"/>
                    <a:chExt cx="3455640" cy="17722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1080000">
                      <a:off x="6372720" y="2512440"/>
                      <a:ext cx="2279880" cy="45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1080000">
                      <a:off x="8508960" y="3057480"/>
                      <a:ext cx="1224720" cy="71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6400440" y="2071440"/>
                    <a:ext cx="3242520" cy="1104480"/>
                    <a:chOff x="6400440" y="2071440"/>
                    <a:chExt cx="3242520" cy="11044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rot="463200">
                      <a:off x="6419160" y="2210400"/>
                      <a:ext cx="210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rot="463200">
                      <a:off x="8474400" y="2439000"/>
                      <a:ext cx="1128600" cy="66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6450480" y="2000880"/>
                    <a:ext cx="2931480" cy="491400"/>
                    <a:chOff x="6450480" y="2000880"/>
                    <a:chExt cx="2931480" cy="49140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1515400">
                      <a:off x="6453720" y="2040120"/>
                      <a:ext cx="19083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1515400">
                      <a:off x="8351280" y="201312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6381000" y="1437120"/>
                    <a:ext cx="2606400" cy="867960"/>
                    <a:chOff x="6381000" y="1437120"/>
                    <a:chExt cx="2606400" cy="8679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20797200">
                      <a:off x="6391800" y="18230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20797200">
                      <a:off x="8046360" y="1535040"/>
                      <a:ext cx="9000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917440" y="2726280"/>
                    <a:ext cx="2818440" cy="3022200"/>
                    <a:chOff x="2917440" y="2726280"/>
                    <a:chExt cx="2818440" cy="30222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18888600">
                      <a:off x="3588120" y="3494880"/>
                      <a:ext cx="2343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18888600">
                      <a:off x="2967480" y="473472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2297880" y="2607840"/>
                    <a:ext cx="3352320" cy="2788920"/>
                    <a:chOff x="2297880" y="2607840"/>
                    <a:chExt cx="3352320" cy="27889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19496400">
                      <a:off x="3272040" y="3273120"/>
                      <a:ext cx="246600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19496400">
                      <a:off x="2390040" y="4342320"/>
                      <a:ext cx="1324080" cy="74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248920" y="2516400"/>
                    <a:ext cx="3414600" cy="2197080"/>
                    <a:chOff x="2248920" y="2516400"/>
                    <a:chExt cx="3414600" cy="21970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20017200">
                      <a:off x="3333960" y="3018960"/>
                      <a:ext cx="236052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20017200">
                      <a:off x="2326680" y="381852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2216160" y="2411640"/>
                    <a:ext cx="3455640" cy="1772640"/>
                    <a:chOff x="2216160" y="2411640"/>
                    <a:chExt cx="3455640" cy="177264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20520000">
                      <a:off x="3376440" y="2752560"/>
                      <a:ext cx="2280240" cy="45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20520000">
                      <a:off x="2296080" y="3297240"/>
                      <a:ext cx="1224360" cy="71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2387880" y="2311560"/>
                    <a:ext cx="3242160" cy="1104840"/>
                    <a:chOff x="2387880" y="2311560"/>
                    <a:chExt cx="3242160" cy="11048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21136800">
                      <a:off x="3510360" y="2450520"/>
                      <a:ext cx="210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21136800">
                      <a:off x="2427120" y="2679120"/>
                      <a:ext cx="1128240" cy="6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2649240" y="2241360"/>
                    <a:ext cx="2931480" cy="491400"/>
                    <a:chOff x="2649240" y="2241360"/>
                    <a:chExt cx="2931480" cy="49140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84600">
                      <a:off x="3668760" y="2280960"/>
                      <a:ext cx="190872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flipH="1" rot="84600">
                      <a:off x="2654640" y="225360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043080" y="1677600"/>
                    <a:ext cx="2605680" cy="867960"/>
                    <a:chOff x="3043080" y="1677600"/>
                    <a:chExt cx="2605680" cy="8679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H="1" rot="802800">
                      <a:off x="3961080" y="206352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rot="802800">
                      <a:off x="3083760" y="1775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3182400" y="1362960"/>
                    <a:ext cx="2563560" cy="1194480"/>
                    <a:chOff x="3182400" y="1362960"/>
                    <a:chExt cx="2563560" cy="119448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 rot="1278000">
                      <a:off x="4073400" y="1970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H="1" rot="1278000">
                      <a:off x="3234600" y="1510560"/>
                      <a:ext cx="90000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3483360" y="915480"/>
                    <a:ext cx="2393640" cy="1662840"/>
                    <a:chOff x="3483360" y="915480"/>
                    <a:chExt cx="2393640" cy="166284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2028600">
                      <a:off x="4260960" y="1844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2028600">
                      <a:off x="3534480" y="1126800"/>
                      <a:ext cx="899640" cy="45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3789720" y="480240"/>
                    <a:ext cx="2190960" cy="2019240"/>
                    <a:chOff x="3789720" y="480240"/>
                    <a:chExt cx="2190960" cy="20192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2664600">
                      <a:off x="4420080" y="1654200"/>
                      <a:ext cx="17006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 rot="2664600">
                      <a:off x="3819600" y="734040"/>
                      <a:ext cx="9133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4439520" y="369000"/>
                    <a:ext cx="1610280" cy="2079360"/>
                    <a:chOff x="4439520" y="369000"/>
                    <a:chExt cx="1610280" cy="20793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3474000">
                      <a:off x="4780800" y="1591200"/>
                      <a:ext cx="14954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3474000">
                      <a:off x="4445640" y="601560"/>
                      <a:ext cx="803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4903560" y="270000"/>
                    <a:ext cx="1237320" cy="2145960"/>
                    <a:chOff x="4903560" y="270000"/>
                    <a:chExt cx="1237320" cy="21459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 rot="4126800">
                      <a:off x="5022000" y="1544400"/>
                      <a:ext cx="144216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 rot="4126800">
                      <a:off x="4869720" y="484560"/>
                      <a:ext cx="77472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6241680" y="1049760"/>
                    <a:ext cx="2554200" cy="1225440"/>
                    <a:chOff x="6241680" y="1049760"/>
                    <a:chExt cx="2554200" cy="122544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rot="20274000">
                      <a:off x="6234840" y="167868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rot="20274000">
                      <a:off x="7842960" y="120204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6095880" y="689760"/>
                    <a:ext cx="2423880" cy="1599840"/>
                    <a:chOff x="6095880" y="689760"/>
                    <a:chExt cx="2423880" cy="159984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19678800">
                      <a:off x="6045480" y="157536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19678800">
                      <a:off x="7566840" y="893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0" name=""/>
                  <p:cNvSpPr/>
                  <p:nvPr/>
                </p:nvSpPr>
                <p:spPr>
                  <a:xfrm flipH="1" rot="4578600">
                    <a:off x="5254200" y="1616040"/>
                    <a:ext cx="139572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rot="4578600">
                    <a:off x="5285520" y="593280"/>
                    <a:ext cx="75024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904360" y="297000"/>
                    <a:ext cx="1318680" cy="2095560"/>
                    <a:chOff x="5904360" y="297000"/>
                    <a:chExt cx="1318680" cy="209556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17742000">
                      <a:off x="5608080" y="1562760"/>
                      <a:ext cx="14436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17742000">
                      <a:off x="6490800" y="534600"/>
                      <a:ext cx="774360" cy="39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895360" y="428400"/>
                    <a:ext cx="2085120" cy="1980360"/>
                    <a:chOff x="5895360" y="428400"/>
                    <a:chExt cx="2085120" cy="198036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18822600">
                      <a:off x="5785200" y="1530720"/>
                      <a:ext cx="156996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18822600">
                      <a:off x="7060320" y="643680"/>
                      <a:ext cx="84240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6017040" y="322200"/>
                    <a:ext cx="471600" cy="1979280"/>
                    <a:chOff x="6017040" y="322200"/>
                    <a:chExt cx="471600" cy="197928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16696200">
                      <a:off x="5519880" y="1593360"/>
                      <a:ext cx="129600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16696200">
                      <a:off x="5999760" y="587880"/>
                      <a:ext cx="69588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3376080" y="2788560"/>
                    <a:ext cx="2420280" cy="3310560"/>
                    <a:chOff x="3376080" y="2788560"/>
                    <a:chExt cx="2420280" cy="331056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18336000">
                      <a:off x="3770280" y="3652560"/>
                      <a:ext cx="23428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18336000">
                      <a:off x="3383640" y="506124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4179240" y="2921400"/>
                    <a:ext cx="1634400" cy="3306600"/>
                    <a:chOff x="4179240" y="2921400"/>
                    <a:chExt cx="1634400" cy="330660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7543400">
                      <a:off x="4120200" y="3792240"/>
                      <a:ext cx="21679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7543400">
                      <a:off x="4127040" y="5230080"/>
                      <a:ext cx="1163160" cy="66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4970160" y="2979000"/>
                    <a:ext cx="963360" cy="3226680"/>
                    <a:chOff x="4970160" y="2979000"/>
                    <a:chExt cx="963360" cy="322668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16870800">
                      <a:off x="4505040" y="3845160"/>
                      <a:ext cx="2079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16870800">
                      <a:off x="4814640" y="5300280"/>
                      <a:ext cx="111564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6260040" y="2736360"/>
                    <a:ext cx="2514240" cy="3255120"/>
                    <a:chOff x="6260040" y="2736360"/>
                    <a:chExt cx="2514240" cy="32551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3144000">
                      <a:off x="5970960" y="358164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3144000">
                      <a:off x="7498080" y="495720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6226200" y="2858400"/>
                    <a:ext cx="1938600" cy="3342600"/>
                    <a:chOff x="6226200" y="2858400"/>
                    <a:chExt cx="1938600" cy="334260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3745200">
                      <a:off x="5804280" y="3742920"/>
                      <a:ext cx="224244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3745200">
                      <a:off x="7002360" y="5201640"/>
                      <a:ext cx="1202760" cy="6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6147000" y="2987280"/>
                    <a:ext cx="1351080" cy="3292560"/>
                    <a:chOff x="6147000" y="2987280"/>
                    <a:chExt cx="1351080" cy="329256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4286400">
                      <a:off x="5563800" y="3904560"/>
                      <a:ext cx="21758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4286400">
                      <a:off x="6479640" y="5380560"/>
                      <a:ext cx="116748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6086880" y="3130560"/>
                    <a:ext cx="768600" cy="3062160"/>
                    <a:chOff x="6086880" y="3130560"/>
                    <a:chExt cx="768600" cy="306216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4898400">
                      <a:off x="5397480" y="3976560"/>
                      <a:ext cx="19994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4898400">
                      <a:off x="5980680" y="5361120"/>
                      <a:ext cx="1073880" cy="52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468760" y="3182400"/>
                    <a:ext cx="731520" cy="2995200"/>
                    <a:chOff x="5468760" y="3182400"/>
                    <a:chExt cx="731520" cy="299520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5755200">
                      <a:off x="4995720" y="4039200"/>
                      <a:ext cx="195336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5755200">
                      <a:off x="5197680" y="5435280"/>
                      <a:ext cx="104796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2397240" y="752040"/>
                <a:ext cx="7678080" cy="8012880"/>
                <a:chOff x="2397240" y="752040"/>
                <a:chExt cx="7678080" cy="8012880"/>
              </a:xfrm>
            </p:grpSpPr>
            <p:grpSp>
              <p:nvGrpSpPr>
                <p:cNvPr id="716" name=""/>
                <p:cNvGrpSpPr/>
                <p:nvPr/>
              </p:nvGrpSpPr>
              <p:grpSpPr>
                <a:xfrm>
                  <a:off x="2397240" y="752040"/>
                  <a:ext cx="7678080" cy="8012880"/>
                  <a:chOff x="2397240" y="752040"/>
                  <a:chExt cx="7678080" cy="801288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 flipV="1">
                    <a:off x="5971320" y="945360"/>
                    <a:ext cx="4104000" cy="55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H="1">
                    <a:off x="2823840" y="2502720"/>
                    <a:ext cx="38847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5948280" y="1931760"/>
                    <a:ext cx="24051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2396880" y="1431360"/>
                    <a:ext cx="405036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>
                    <a:off x="2743200" y="752040"/>
                    <a:ext cx="34074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774040" y="2067480"/>
                    <a:ext cx="1440000" cy="626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4744440" y="921600"/>
                    <a:ext cx="568080" cy="20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4" name=""/>
                <p:cNvSpPr/>
                <p:nvPr/>
              </p:nvSpPr>
              <p:spPr>
                <a:xfrm rot="20253000">
                  <a:off x="6756480" y="2404080"/>
                  <a:ext cx="600840" cy="11376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2582280" y="785160"/>
              <a:ext cx="7067520" cy="8218800"/>
              <a:chOff x="2582280" y="785160"/>
              <a:chExt cx="7067520" cy="8218800"/>
            </a:xfrm>
          </p:grpSpPr>
          <p:sp>
            <p:nvSpPr>
              <p:cNvPr id="726" name=""/>
              <p:cNvSpPr/>
              <p:nvPr/>
            </p:nvSpPr>
            <p:spPr>
              <a:xfrm flipH="1">
                <a:off x="4926240" y="356508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728880" y="2741040"/>
                <a:ext cx="57697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4017960" y="2338560"/>
                <a:ext cx="252432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582280" y="1914840"/>
                <a:ext cx="4050000" cy="626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033600" y="2370240"/>
                <a:ext cx="6418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965560" y="2355120"/>
                <a:ext cx="1693080" cy="626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84920" y="390924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 rot="19660800">
                <a:off x="5758560" y="3249720"/>
                <a:ext cx="600480" cy="113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961360" y="3731040"/>
                <a:ext cx="14752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3656520" y="1540800"/>
                <a:ext cx="9460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80720" y="3426480"/>
                <a:ext cx="1369080" cy="217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9720" y="2325240"/>
                <a:ext cx="2063880" cy="145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45680" y="785160"/>
                <a:ext cx="901080" cy="194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rot="1347000">
                <a:off x="4610520" y="2374200"/>
                <a:ext cx="600840" cy="113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55640" y="2014200"/>
            <a:ext cx="8569440" cy="17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12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13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14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68CBE96-60AD-4578-AD6E-2DAB81ABBD1F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  <a:p>
            <a:pPr lvl="2" marL="1008000" algn="ctr">
              <a:spcBef>
                <a:spcPts val="649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lvl="3" marL="1511280" algn="ctr">
              <a:spcBef>
                <a:spcPts val="550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4" marL="2016000" algn="ctr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5" marL="201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6" marL="201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325440" y="191124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atematica a colo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mia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7 Maggio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6769080" y="104292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576360" y="1042920"/>
            <a:ext cx="2808360" cy="9511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05040" y="2700360"/>
            <a:ext cx="841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Ebrima"/>
              </a:rPr>
              <a:t>M</a:t>
            </a:r>
            <a:r>
              <a:rPr b="0" lang="it-IT" sz="4400" spc="-1" strike="noStrike">
                <a:solidFill>
                  <a:srgbClr val="666666"/>
                </a:solidFill>
                <a:latin typeface="Ebrima"/>
              </a:rPr>
              <a:t>atematica</a:t>
            </a:r>
            <a:r>
              <a:rPr b="0" lang="it-IT" sz="4400" spc="-1" strike="noStrike">
                <a:solidFill>
                  <a:srgbClr val="000000"/>
                </a:solidFill>
                <a:latin typeface="Ebrima"/>
              </a:rPr>
              <a:t> S</a:t>
            </a:r>
            <a:r>
              <a:rPr b="0" lang="it-IT" sz="4400" spc="-1" strike="noStrike">
                <a:solidFill>
                  <a:srgbClr val="666666"/>
                </a:solidFill>
                <a:latin typeface="Ebrima"/>
              </a:rPr>
              <a:t>enza </a:t>
            </a:r>
            <a:r>
              <a:rPr b="0" lang="it-IT" sz="4400" spc="-1" strike="noStrike">
                <a:solidFill>
                  <a:srgbClr val="000000"/>
                </a:solidFill>
                <a:latin typeface="Ebrima"/>
              </a:rPr>
              <a:t>F</a:t>
            </a:r>
            <a:r>
              <a:rPr b="0" lang="it-IT" sz="4400" spc="-1" strike="noStrike">
                <a:solidFill>
                  <a:srgbClr val="666666"/>
                </a:solidFill>
                <a:latin typeface="Ebrima"/>
              </a:rPr>
              <a:t>ronti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al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3890880" cy="498960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 siamo riusciti usando solo 4 color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' una regola genera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19280" y="2484360"/>
            <a:ext cx="906912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1944720" y="1042920"/>
            <a:ext cx="1376280" cy="1941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160720" y="2916360"/>
            <a:ext cx="172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19280" y="478800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56360" y="3348000"/>
            <a:ext cx="172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97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360" y="1042920"/>
            <a:ext cx="727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o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871640" y="539640"/>
            <a:ext cx="4897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 un excursus storico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464000" y="2340000"/>
            <a:ext cx="108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5823000" y="154620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6985080" y="3059280"/>
            <a:ext cx="1974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olfgang Ha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03280" y="4356000"/>
            <a:ext cx="785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è illustrato 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6720" y="3600360"/>
            <a:ext cx="755964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è illustrato che le varie configurazioni delle mappe possono venir descritte, attravers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la teoria dei graf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dalla dimensione della configurazione, espressa dal numero di vertici del bordo dell’anello ester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 è accennato anche al fatto che il  rivoluzionari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tilizzo di algoritmi informatici per verificare l'esattez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lla congettura scatenò grandi polemiche sull'affidabilità di questi meto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39640" y="301680"/>
            <a:ext cx="9033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ai 4 colori ai graf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3932280" y="1440000"/>
            <a:ext cx="2019240" cy="233820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7172280" y="1441440"/>
            <a:ext cx="2006640" cy="233856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719280" y="450072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5"/>
          <a:stretch/>
        </p:blipFill>
        <p:spPr>
          <a:xfrm>
            <a:off x="6480000" y="4211640"/>
            <a:ext cx="2880000" cy="21319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7128000" y="6804000"/>
            <a:ext cx="100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50328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indi,abbiamo attraversato metaforicamente i ponti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Königsberg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1640" y="2570040"/>
            <a:ext cx="445140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ta per aver proposto un quesito che solo Eulero riuscì a risolvere (17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4824360" y="1908000"/>
            <a:ext cx="4664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287280" y="250920"/>
            <a:ext cx="57927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ulero contò il numero di linee (ponti) che si concentrano in ogni punto (ter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, 3, 5 e 3 e dimostrò il seguente teore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7056360" y="324000"/>
            <a:ext cx="2249640" cy="290808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2592360" y="3708360"/>
            <a:ext cx="2664000" cy="2292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360360" y="2484360"/>
            <a:ext cx="5184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Un qualsiasi grafo è percorribile se e solo se ha tutti i nodi di grado pari, o due di essi sono di grado disp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16000" y="0"/>
            <a:ext cx="9575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ché è interessante la teoria dei graf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87280" y="798480"/>
            <a:ext cx="9001080" cy="57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12720" indent="-608040">
              <a:lnSpc>
                <a:spcPct val="73000"/>
              </a:lnSpc>
              <a:spcBef>
                <a:spcPts val="700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bilire la rotta di un veicolo postale in modo da distribuire la posta in maniera efficiente: Chinese Postman's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 di ispezione e manutenzione di sistemi distribuiti: reti elettriche, telefoniche, strad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a dei quattro color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i di circuiti elettronici stampati, allocazione di variabili e registri della CPU, assegnazione di frequenze radio-televisiv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…IL COMMESSO VIAGGIATORE:dato un insieme di città, qual è il percorso più breve che le attraversa tutte una sola volta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876680" y="694836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42472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pigolatura di quesiti prop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1115640"/>
            <a:ext cx="905832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ppe e color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orate le due map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1584360" y="3132000"/>
            <a:ext cx="2666880" cy="22132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6119640" y="3203640"/>
            <a:ext cx="2498760" cy="21477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47640" y="6084720"/>
            <a:ext cx="7129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ivamente con 3 e 4 colo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949400" y="70200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9058320" cy="15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a storia che si rip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86920" y="1042920"/>
            <a:ext cx="943308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ardate la figura, la potete ottenere incollando opportunamente un nastro di ca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ovete scrivere le strofe della filastrocca  sul nastro in modo che rappresentino una storia che si possa leggere all’infin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792000" y="3348000"/>
            <a:ext cx="2940120" cy="34704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5378760" y="3481560"/>
            <a:ext cx="309636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'era una volta un 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duto sul sof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he disse alla sua ser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accontami una storia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 la serva Incominci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’era una volta un 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duto sul canap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he disse alla sua ser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accontami una storia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 la serva incominciò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237040" y="694836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286920" y="1042920"/>
            <a:ext cx="943308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37040" y="694836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08000" y="2050920"/>
            <a:ext cx="83520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ccasione della preparazione della premiazione è stata opportuna per conoscere il lavoro della collega Angela Aquilino effettuato nella sua scuol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’interno del Progetto Matematica e real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1415880" y="2111400"/>
            <a:ext cx="6720120" cy="50403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 txBox="1"/>
          <p:nvPr/>
        </p:nvSpPr>
        <p:spPr>
          <a:xfrm>
            <a:off x="673200" y="922320"/>
            <a:ext cx="8653320" cy="282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2315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Neverwinter"/>
              </a:rPr>
              <a:t>Liceo Scientific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Neverwinter"/>
              <a:ea typeface="Neverwinter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341440" y="2033640"/>
            <a:ext cx="4873680" cy="20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3036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Neverwinter"/>
              </a:rPr>
              <a:t>A. Rom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Neverwinter"/>
              <a:ea typeface="Neverwinter"/>
            </a:endParaRPr>
          </a:p>
        </p:txBody>
      </p:sp>
      <p:sp>
        <p:nvSpPr>
          <p:cNvPr id="875" name=""/>
          <p:cNvSpPr/>
          <p:nvPr/>
        </p:nvSpPr>
        <p:spPr>
          <a:xfrm>
            <a:off x="436680" y="5367240"/>
            <a:ext cx="39686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3500" spc="-1" strike="noStrike">
                <a:solidFill>
                  <a:srgbClr val="ffcc00"/>
                </a:solidFill>
                <a:latin typeface="Neverwinter"/>
              </a:rPr>
              <a:t>A.S. </a:t>
            </a:r>
            <a:r>
              <a:rPr b="0" lang="it-IT" sz="6000" spc="-1" strike="noStrike">
                <a:solidFill>
                  <a:srgbClr val="ffcc00"/>
                </a:solidFill>
                <a:latin typeface="Neverwinter"/>
              </a:rPr>
              <a:t>2006/0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5880" y="4573440"/>
            <a:ext cx="25416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Neverwinter"/>
              </a:rPr>
              <a:t>Classi 2 </a:t>
            </a:r>
            <a:r>
              <a:rPr b="0" lang="it-IT" sz="4000" spc="-1" strike="noStrike" baseline="30000">
                <a:solidFill>
                  <a:srgbClr val="ffcc00"/>
                </a:solidFill>
                <a:latin typeface="Neverwinter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25440" y="191124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6840360" y="97164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576360" y="1042920"/>
            <a:ext cx="3024000" cy="102564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863640" y="3132000"/>
            <a:ext cx="8362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Ebrima"/>
              </a:rPr>
              <a:t>In occasione della premiazione si effettua una gara giocosa di selezione tra le classi con i migliori risulta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Ebrima"/>
              </a:rPr>
              <a:t>Vi propongo la sintesi della presentazione, tema conduttore di sfondo ai quesiti e una spigolatura di que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595440" y="2747520"/>
            <a:ext cx="762156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Coloriamo la cartina dell’Africa con il minor numero di colori in maniera tale che due Stati confinanti abbiano colori diversi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0" y="-268200"/>
            <a:ext cx="6946920" cy="806616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5081760" cy="4363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300" spc="-1" strike="noStrike">
                <a:solidFill>
                  <a:srgbClr val="fe1f08"/>
                </a:solidFill>
                <a:latin typeface="Forte"/>
              </a:rPr>
              <a:t>La scelta dell’Africa è stata motivata dall’attività di beneficenza realizzata con vendita di oggetti prodotti dagli alunni della scuola</a:t>
            </a:r>
            <a:r>
              <a:rPr b="0" lang="it-IT" sz="45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"/>
          <p:cNvSpPr/>
          <p:nvPr/>
        </p:nvSpPr>
        <p:spPr>
          <a:xfrm>
            <a:off x="276120" y="3541680"/>
            <a:ext cx="849312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e finalizzata ad una raccolta di fondi 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 </a:t>
            </a: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consentire a due studenti di Gorè (Ciad) di proseguire gli studi universitari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randomBa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57120" y="933120"/>
            <a:ext cx="67471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900" spc="-1" strike="noStrike">
                <a:solidFill>
                  <a:srgbClr val="ff3300"/>
                </a:solidFill>
                <a:latin typeface="Forte"/>
              </a:rPr>
              <a:t>Possiamo anche rappresentare il grafo con la matrice booleana ad esso equivalente.</a:t>
            </a:r>
            <a:br>
              <a:rPr sz="2900"/>
            </a:br>
            <a:r>
              <a:rPr b="0" lang="it-IT" sz="2900" spc="-1" strike="noStrike">
                <a:solidFill>
                  <a:srgbClr val="ff3300"/>
                </a:solidFill>
                <a:latin typeface="Forte"/>
              </a:rPr>
              <a:t>Nella matrice booleana i nodi del grafo contrassegnano le righe e le colonne: nella casella (x, y) compare 1 se il nodo x è collegato al nodo y, 0 altrimenti</a:t>
            </a:r>
            <a:endParaRPr b="0" lang="en-US" sz="29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357120" y="3303720"/>
          <a:ext cx="3503160" cy="4011120"/>
        </p:xfrm>
        <a:graphic>
          <a:graphicData uri="http://schemas.openxmlformats.org/drawingml/2006/table">
            <a:tbl>
              <a:tblPr/>
              <a:tblGrid>
                <a:gridCol w="403920"/>
                <a:gridCol w="516240"/>
                <a:gridCol w="588240"/>
                <a:gridCol w="446040"/>
                <a:gridCol w="514800"/>
                <a:gridCol w="516240"/>
                <a:gridCol w="517680"/>
              </a:tblGrid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B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C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D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F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B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C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D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F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3" name=""/>
          <p:cNvGrpSpPr/>
          <p:nvPr/>
        </p:nvGrpSpPr>
        <p:grpSpPr>
          <a:xfrm>
            <a:off x="5516640" y="3859200"/>
            <a:ext cx="3793680" cy="2593440"/>
            <a:chOff x="5516640" y="3859200"/>
            <a:chExt cx="3793680" cy="2593440"/>
          </a:xfrm>
        </p:grpSpPr>
        <p:grpSp>
          <p:nvGrpSpPr>
            <p:cNvPr id="884" name=""/>
            <p:cNvGrpSpPr/>
            <p:nvPr/>
          </p:nvGrpSpPr>
          <p:grpSpPr>
            <a:xfrm>
              <a:off x="5516640" y="3859200"/>
              <a:ext cx="3793680" cy="2593440"/>
              <a:chOff x="5516640" y="3859200"/>
              <a:chExt cx="3793680" cy="2593440"/>
            </a:xfrm>
          </p:grpSpPr>
          <p:sp>
            <p:nvSpPr>
              <p:cNvPr id="885" name=""/>
              <p:cNvSpPr/>
              <p:nvPr/>
            </p:nvSpPr>
            <p:spPr>
              <a:xfrm>
                <a:off x="5680440" y="3885480"/>
                <a:ext cx="52884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596360" y="3859200"/>
                <a:ext cx="529200" cy="54000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16640" y="5913000"/>
                <a:ext cx="52920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558200" y="5307480"/>
                <a:ext cx="52920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777000" y="4504320"/>
                <a:ext cx="52920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81120" y="4530240"/>
                <a:ext cx="529200" cy="54000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5843880" y="4372560"/>
                <a:ext cx="37800" cy="15138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197040" y="4122360"/>
                <a:ext cx="1386360" cy="12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146640" y="4345920"/>
                <a:ext cx="630000" cy="2898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43200" y="4899240"/>
                <a:ext cx="415800" cy="5004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7835400" y="4385520"/>
                <a:ext cx="12600" cy="9612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6033600" y="5662440"/>
                <a:ext cx="1562760" cy="4870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112960" y="4175280"/>
                <a:ext cx="718200" cy="5000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8087760" y="5004360"/>
                <a:ext cx="819000" cy="5133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V="1">
              <a:off x="7218360" y="4293360"/>
              <a:ext cx="466200" cy="263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9999998658895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995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5835600" y="2570040"/>
            <a:ext cx="38498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fe1f08"/>
                </a:solidFill>
                <a:latin typeface="Forte"/>
              </a:rPr>
              <a:t>Grafo sulla cartina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fe1f08"/>
                </a:solidFill>
                <a:latin typeface="Forte"/>
              </a:rPr>
              <a:t> </a:t>
            </a:r>
            <a:r>
              <a:rPr b="0" lang="it-IT" sz="3500" spc="-1" strike="noStrike">
                <a:solidFill>
                  <a:srgbClr val="fe1f08"/>
                </a:solidFill>
                <a:latin typeface="Forte"/>
              </a:rPr>
              <a:t>dell’Africa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276120" y="1398600"/>
            <a:ext cx="4938840" cy="54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32720" cy="7559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3"/>
          <a:stretch/>
        </p:blipFill>
        <p:spPr>
          <a:xfrm>
            <a:off x="1627200" y="1241280"/>
            <a:ext cx="7969320" cy="59389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 flipH="1" flipV="1">
            <a:off x="0" y="2509920"/>
            <a:ext cx="1627200" cy="46828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0" y="0"/>
            <a:ext cx="1627200" cy="1241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3691080" y="0"/>
            <a:ext cx="5873760" cy="1241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2509920"/>
            <a:ext cx="16272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91080" y="0"/>
            <a:ext cx="0" cy="1241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-360" y="1795320"/>
            <a:ext cx="2698920" cy="405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Dall’analisi del grafo e della matrice booleana risultano necessari almeno 4 colori.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4087800" y="2192400"/>
            <a:ext cx="5330880" cy="488304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 txBox="1"/>
          <p:nvPr/>
        </p:nvSpPr>
        <p:spPr>
          <a:xfrm>
            <a:off x="2260440" y="763560"/>
            <a:ext cx="4875480" cy="20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3036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1f08"/>
                </a:solidFill>
                <a:latin typeface="Neverwinter"/>
              </a:rPr>
              <a:t>Soluz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1f08"/>
              </a:solidFill>
              <a:latin typeface="Neverwinter"/>
              <a:ea typeface="Neverwinter"/>
            </a:endParaRPr>
          </a:p>
        </p:txBody>
      </p:sp>
    </p:spTree>
  </p:cSld>
  <p:transition advTm="13000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52" dur="3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alia preunit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327640" y="2700360"/>
            <a:ext cx="43210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5840" indent="-1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a antica mappa dell'Italia, oltre che per il suo significato storico-politico, è interessante da un punto di vista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tematic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ché fatta di linee, di aree, di zone colora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5840" indent="-1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5840" indent="-1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541440" y="126036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alia preunit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28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 chiediamo: qual è il numer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nim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color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cessa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colorarl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capirlo ci facciamo aiutare da altri matematici che prima di noi hanno affrontato il probl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900000" y="1440000"/>
            <a:ext cx="39592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7280" y="5003640"/>
            <a:ext cx="954108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50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ià nel 1952 Dynkin – Uspenskii ha present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lla rivista Mathematical discussions, Mosc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esto teorem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60360" y="250920"/>
            <a:ext cx="9066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oriamo una mapp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ndo sono sufficienti due color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503280" y="2627280"/>
            <a:ext cx="2808360" cy="1868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3384720" y="2843280"/>
            <a:ext cx="2447640" cy="14810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6264360" y="2771640"/>
            <a:ext cx="25336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431640" y="1979640"/>
            <a:ext cx="5040360" cy="38876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5400720" y="1332000"/>
            <a:ext cx="43196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colori sono sufficienti per ogni mapp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ciata con linee</a:t>
            </a:r>
            <a:r>
              <a:rPr b="1" lang="en-US" sz="2800" spc="-1" strike="noStrike">
                <a:solidFill>
                  <a:srgbClr val="4c1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 ne attraversino l’intera superficie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 linee chi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pli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mente interne alla map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836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orema dei due colori</a:t>
            </a: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6360" y="1768320"/>
            <a:ext cx="914220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teorema vale in generale se si disegnano del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inee chiuse interamente inter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eglio se non si intrecciano, ma il teorema si può dimostrare anche se le linee chiuse si intreccia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orema dei due col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431640" y="1258920"/>
            <a:ext cx="4426200" cy="31305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5111640" y="1332000"/>
            <a:ext cx="4426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figure in cui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mero di line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convergono in un vertice è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mpre un numero p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 possono colorare con solo due col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5904000" y="3995640"/>
            <a:ext cx="3887640" cy="29988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47640" y="4500720"/>
            <a:ext cx="489744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n un vertice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line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si congiungono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no disp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llora si dev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ggiungere un co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3890880" cy="49896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5840" indent="-4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a è la mappa della nostra bella Italia, così come si presenta ogg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840" indent="-4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nti colori sono stati usat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840" indent="-4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 potevano essere usati in minor numero e quanti come mini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4:22:00Z</dcterms:created>
  <dc:creator>anto tre</dc:creator>
  <dc:description/>
  <dc:language>en-US</dc:language>
  <cp:lastModifiedBy>AMG</cp:lastModifiedBy>
  <dcterms:modified xsi:type="dcterms:W3CDTF">2011-05-15T10:13:22Z</dcterms:modified>
  <cp:revision>29</cp:revision>
  <dc:subject/>
  <dc:title>Diapositiva 1</dc:title>
</cp:coreProperties>
</file>