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7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8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7F769-CDF6-4612-9C9D-D19B57800FC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41D39-B4F8-47E0-81A6-F917D30F1C7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42924-8A28-40AA-9F20-9BA3921D156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7BF92-CF69-4984-A698-781A30FA6F4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8FB18-2FBD-44EA-9B6A-6FC79A39C20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CDAC9-8988-48AB-9D95-2DF9858DA29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666B7-5078-4707-B253-725BFA48724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B661A-15C9-4A6E-96D9-6B6989C867B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0F198-0CE7-4190-BC94-2CE5DBBAAE4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520D3-29FF-49C0-8FF6-87EC11BB1D0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2661A-E10E-4D3A-9F51-6D4BABA4A5C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7D4BC-F1BF-4670-985F-70DE073070A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70B45-6702-446C-B133-956E0B796D1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BC46F-49D4-4A4A-B8FD-00D7A97F93E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130CA-D244-4D04-B608-ADC26A609C5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C1D94-940A-4096-9B64-D501C55C30D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9773E-E006-4C32-81DE-5E61AEF56D3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2155E-027C-4067-A0EF-E2CF8314297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043A7-EDA3-4D2B-B455-023B592F5D7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DEAF2-4179-4EAA-91CD-010CB29EE8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04493-AC14-4042-B936-F7BDA9B359F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6D75B-756D-4748-A139-3DF75B00705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1BAA9-0C40-47D4-B855-75EA8E94330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F8FD0-FBE2-464A-841C-AF7F37F8C2A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348F1-1FC7-408D-9B14-4CA421E431A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D5782-E511-4402-8969-FD82725BF06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7B595-7D21-4FF2-8001-A5671536DB1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82FCA-85C2-4020-AA1A-6D34BD143F7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8558E-697D-4343-820A-E0884EBD2BC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6915-9396-4E59-AE8A-8417B4CD2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C39A-EAB8-4F55-A063-FBF5C53BB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9804-0A3F-4136-B7BF-A411B1A9E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C3D1-4BF6-4CB9-83B1-2C51680C4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ED69-D4D5-4192-A8E1-8CF51DCEDE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890B2-7687-4148-AE55-9FF8037468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4B56-2977-4F25-88B2-9773EC02BC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4A94-6871-4912-A6BA-CA87A6B526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841F-815B-4829-A0DC-7028276F04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640" y="331920"/>
            <a:ext cx="85694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2224-CB71-4C08-9510-B151FADF30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998A-9298-4E56-96EA-6BA7886A1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4431-284F-422F-8E9A-45C335857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06F6-6F20-4D91-91CC-FE9EC389F4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18F2-FF83-4703-A026-CC9B1FE944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FC40-6453-47D6-BC4E-63AC6C9D74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D7BC-29C9-4FF4-8DBA-E35F85AABC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1607-6CB5-4B4A-BDBE-B1C8CFA5AB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117D0-BFC5-4605-9474-9BAF359D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B5153-D338-43D0-96F8-5B42EE88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CCC0F-6838-4DC8-B642-78674045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EB00E-0240-4B4F-BE59-2EC74E7E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0989-87A1-4BBD-9CCD-DD4997F0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0D85-C944-469F-9BE5-422ACD688E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755640" y="331920"/>
            <a:ext cx="85694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95D0-2F69-418C-AE4A-D9CC1D0E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131EE-F848-4B47-AB78-D8CE26D0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95908-F469-41C3-BC4D-CA2319F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F7250-04C7-4CC0-875F-550269F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0D04-AF19-459F-8EBF-5B62A339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99E7F-738A-467D-871C-BE267DB6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2DA82-939E-4AC5-A4E1-F9214CBE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4C287-3C90-4C92-9AF3-21077351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0964F-0174-4C83-95BC-BE4B1138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C1BAC-8908-4B10-9E89-551800E7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486C-446D-4CBF-BF80-1E686A9795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088A4-8E57-436B-A788-7B7F0E9D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4A655-DBFB-4FEF-9841-63FB033D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755640" y="331920"/>
            <a:ext cx="85694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D6AC6-82FD-4156-9BE6-4CAC424C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CF0FB-E776-4E21-970A-174231F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29393-D398-4D1E-9ACE-BEFA2A85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E49CE-3508-4302-9BA5-7F98E27F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A772B-ADCE-46E4-9F53-A96AFD75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700E4-88E9-4416-856B-5A59A0FC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BE0B1-E19A-4BE8-9C4B-717D3CB2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66F6C-6CD1-4D86-B245-E3153F63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30B4-9818-4EE3-A5E7-24E74056EEF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11AB2-D857-41C6-9082-BE90767C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18F6F-1071-4C99-8F48-1ADC16C8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A49DA-4D05-48B2-893F-F67DF9F5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B7253-D3C5-4BD6-8AFD-1F8649F8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755640" y="331920"/>
            <a:ext cx="85694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2C707-35B9-4AB2-B510-CDCFB2FE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C2514-6C01-4FD2-B643-18AF994F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6E45E-3BB4-4B57-AC41-44CE1A1E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2BF55-8A17-42CF-B424-6912511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E183F-A54D-443D-BCA5-7496FAAD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468C4-C6C4-4864-B3FA-C273A26D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640" y="331920"/>
            <a:ext cx="85694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2425-47AC-41C2-B69F-9515527E3E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60F3D-0201-4A31-AA07-F12E88C5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86740-D16A-4D9D-B045-145E322C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12B65-71CA-4387-976A-1B6D363C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758E4-4412-4863-B013-5D0BF104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27B76-C8F2-4497-AFA5-90F57731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99FE1-1386-4324-9D79-AC8C5C3F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755640" y="331920"/>
            <a:ext cx="8569440" cy="74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7C373-2D38-4C22-9927-C018B9F6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1CD14-F04D-4105-8262-BB486191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E9469-7E94-4F0C-A902-BC996E97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B8BC8-C737-4799-B63F-F416F749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055C-186D-4ADD-B52B-40993FE875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71305-D47F-4D24-ABF3-B5F64C1E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120E3-2CB0-4122-A022-0F0DBC33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A5B8D-0DAD-4351-8F65-17B64876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18BC-C433-415D-8370-452C0B782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81FA-4170-4067-BF00-717EF68EB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D6595-2949-4841-81A8-B4DD09A789B4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3280" y="6886440"/>
            <a:ext cx="234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89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3240000" y="68040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7A95A-FD07-426F-9DAB-DBD376CA82A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916320" y="-23760"/>
            <a:ext cx="3164040" cy="3611520"/>
            <a:chOff x="6916320" y="-23760"/>
            <a:chExt cx="3164040" cy="3611520"/>
          </a:xfrm>
        </p:grpSpPr>
        <p:grpSp>
          <p:nvGrpSpPr>
            <p:cNvPr id="83" name="Group 3"/>
            <p:cNvGrpSpPr/>
            <p:nvPr/>
          </p:nvGrpSpPr>
          <p:grpSpPr>
            <a:xfrm>
              <a:off x="8342280" y="2756520"/>
              <a:ext cx="1107720" cy="831240"/>
              <a:chOff x="8342280" y="2756520"/>
              <a:chExt cx="1107720" cy="831240"/>
            </a:xfrm>
          </p:grpSpPr>
          <p:sp>
            <p:nvSpPr>
              <p:cNvPr id="84" name="Oval 4"/>
              <p:cNvSpPr/>
              <p:nvPr/>
            </p:nvSpPr>
            <p:spPr>
              <a:xfrm>
                <a:off x="8342280" y="2756520"/>
                <a:ext cx="110772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5"/>
              <p:cNvSpPr/>
              <p:nvPr/>
            </p:nvSpPr>
            <p:spPr>
              <a:xfrm>
                <a:off x="8740080" y="312012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8597520" y="1591560"/>
              <a:ext cx="1108080" cy="831240"/>
              <a:chOff x="8597520" y="1591560"/>
              <a:chExt cx="1108080" cy="831240"/>
            </a:xfrm>
          </p:grpSpPr>
          <p:sp>
            <p:nvSpPr>
              <p:cNvPr id="87" name="Oval 7"/>
              <p:cNvSpPr/>
              <p:nvPr/>
            </p:nvSpPr>
            <p:spPr>
              <a:xfrm>
                <a:off x="8597520" y="159156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8995680" y="195516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9"/>
            <p:cNvGrpSpPr/>
            <p:nvPr/>
          </p:nvGrpSpPr>
          <p:grpSpPr>
            <a:xfrm>
              <a:off x="6977520" y="0"/>
              <a:ext cx="1108080" cy="831240"/>
              <a:chOff x="6977520" y="0"/>
              <a:chExt cx="1108080" cy="831240"/>
            </a:xfrm>
          </p:grpSpPr>
          <p:sp>
            <p:nvSpPr>
              <p:cNvPr id="90" name="Oval 10"/>
              <p:cNvSpPr/>
              <p:nvPr/>
            </p:nvSpPr>
            <p:spPr>
              <a:xfrm>
                <a:off x="6977520" y="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11"/>
              <p:cNvSpPr/>
              <p:nvPr/>
            </p:nvSpPr>
            <p:spPr>
              <a:xfrm>
                <a:off x="7375680" y="36360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"/>
            <p:cNvGrpSpPr/>
            <p:nvPr/>
          </p:nvGrpSpPr>
          <p:grpSpPr>
            <a:xfrm>
              <a:off x="6916320" y="-23760"/>
              <a:ext cx="3164040" cy="2501640"/>
              <a:chOff x="6916320" y="-23760"/>
              <a:chExt cx="3164040" cy="2501640"/>
            </a:xfrm>
          </p:grpSpPr>
          <p:grpSp>
            <p:nvGrpSpPr>
              <p:cNvPr id="93" name="Group 13"/>
              <p:cNvGrpSpPr/>
              <p:nvPr/>
            </p:nvGrpSpPr>
            <p:grpSpPr>
              <a:xfrm>
                <a:off x="7707240" y="444240"/>
                <a:ext cx="1652040" cy="1217880"/>
                <a:chOff x="7707240" y="444240"/>
                <a:chExt cx="1652040" cy="1217880"/>
              </a:xfrm>
            </p:grpSpPr>
            <p:sp>
              <p:nvSpPr>
                <p:cNvPr id="94" name="Oval 14"/>
                <p:cNvSpPr/>
                <p:nvPr/>
              </p:nvSpPr>
              <p:spPr>
                <a:xfrm>
                  <a:off x="7707240" y="444240"/>
                  <a:ext cx="1652040" cy="121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Oval 15"/>
                <p:cNvSpPr/>
                <p:nvPr/>
              </p:nvSpPr>
              <p:spPr>
                <a:xfrm>
                  <a:off x="8338320" y="889560"/>
                  <a:ext cx="327600" cy="22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6"/>
              <p:cNvGrpSpPr/>
              <p:nvPr/>
            </p:nvGrpSpPr>
            <p:grpSpPr>
              <a:xfrm>
                <a:off x="6916320" y="-23760"/>
                <a:ext cx="3161520" cy="2501640"/>
                <a:chOff x="6916320" y="-23760"/>
                <a:chExt cx="3161520" cy="2501640"/>
              </a:xfrm>
            </p:grpSpPr>
            <p:grpSp>
              <p:nvGrpSpPr>
                <p:cNvPr id="97" name="Group 17"/>
                <p:cNvGrpSpPr/>
                <p:nvPr/>
              </p:nvGrpSpPr>
              <p:grpSpPr>
                <a:xfrm>
                  <a:off x="8637120" y="929160"/>
                  <a:ext cx="1173240" cy="1258200"/>
                  <a:chOff x="8637120" y="929160"/>
                  <a:chExt cx="1173240" cy="1258200"/>
                </a:xfrm>
              </p:grpSpPr>
              <p:sp>
                <p:nvSpPr>
                  <p:cNvPr id="98" name="Freeform 18"/>
                  <p:cNvSpPr/>
                  <p:nvPr/>
                </p:nvSpPr>
                <p:spPr>
                  <a:xfrm rot="2711400">
                    <a:off x="8555400" y="1248840"/>
                    <a:ext cx="9752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9"/>
                  <p:cNvSpPr/>
                  <p:nvPr/>
                </p:nvSpPr>
                <p:spPr>
                  <a:xfrm rot="2711400">
                    <a:off x="9266040" y="1765440"/>
                    <a:ext cx="52308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0"/>
                <p:cNvGrpSpPr/>
                <p:nvPr/>
              </p:nvGrpSpPr>
              <p:grpSpPr>
                <a:xfrm>
                  <a:off x="8648640" y="849960"/>
                  <a:ext cx="1395000" cy="1160280"/>
                  <a:chOff x="8648640" y="849960"/>
                  <a:chExt cx="1395000" cy="1160280"/>
                </a:xfrm>
              </p:grpSpPr>
              <p:sp>
                <p:nvSpPr>
                  <p:cNvPr id="101" name="Freeform 21"/>
                  <p:cNvSpPr/>
                  <p:nvPr/>
                </p:nvSpPr>
                <p:spPr>
                  <a:xfrm rot="2103600">
                    <a:off x="8611560" y="112680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22"/>
                  <p:cNvSpPr/>
                  <p:nvPr/>
                </p:nvSpPr>
                <p:spPr>
                  <a:xfrm rot="2103600">
                    <a:off x="9454320" y="1571400"/>
                    <a:ext cx="55080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23"/>
                <p:cNvGrpSpPr/>
                <p:nvPr/>
              </p:nvGrpSpPr>
              <p:grpSpPr>
                <a:xfrm>
                  <a:off x="8643960" y="811080"/>
                  <a:ext cx="1419480" cy="913320"/>
                  <a:chOff x="8643960" y="811080"/>
                  <a:chExt cx="1419480" cy="913320"/>
                </a:xfrm>
              </p:grpSpPr>
              <p:sp>
                <p:nvSpPr>
                  <p:cNvPr id="104" name="Freeform 24"/>
                  <p:cNvSpPr/>
                  <p:nvPr/>
                </p:nvSpPr>
                <p:spPr>
                  <a:xfrm rot="1582800">
                    <a:off x="8631000" y="1019880"/>
                    <a:ext cx="98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25"/>
                  <p:cNvSpPr/>
                  <p:nvPr/>
                </p:nvSpPr>
                <p:spPr>
                  <a:xfrm rot="1582800">
                    <a:off x="9504000" y="1352520"/>
                    <a:ext cx="52668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6"/>
                <p:cNvGrpSpPr/>
                <p:nvPr/>
              </p:nvGrpSpPr>
              <p:grpSpPr>
                <a:xfrm>
                  <a:off x="8640360" y="767160"/>
                  <a:ext cx="1437480" cy="738360"/>
                  <a:chOff x="8640360" y="767160"/>
                  <a:chExt cx="1437480" cy="738360"/>
                </a:xfrm>
              </p:grpSpPr>
              <p:sp>
                <p:nvSpPr>
                  <p:cNvPr id="107" name="Freeform 27"/>
                  <p:cNvSpPr/>
                  <p:nvPr/>
                </p:nvSpPr>
                <p:spPr>
                  <a:xfrm rot="1080000">
                    <a:off x="8646480" y="909000"/>
                    <a:ext cx="94824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28"/>
                  <p:cNvSpPr/>
                  <p:nvPr/>
                </p:nvSpPr>
                <p:spPr>
                  <a:xfrm rot="1080000">
                    <a:off x="9534600" y="113616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9"/>
                <p:cNvGrpSpPr/>
                <p:nvPr/>
              </p:nvGrpSpPr>
              <p:grpSpPr>
                <a:xfrm>
                  <a:off x="8657280" y="725400"/>
                  <a:ext cx="1348920" cy="460440"/>
                  <a:chOff x="8657280" y="725400"/>
                  <a:chExt cx="1348920" cy="460440"/>
                </a:xfrm>
              </p:grpSpPr>
              <p:sp>
                <p:nvSpPr>
                  <p:cNvPr id="110" name="Freeform 30"/>
                  <p:cNvSpPr/>
                  <p:nvPr/>
                </p:nvSpPr>
                <p:spPr>
                  <a:xfrm rot="463200">
                    <a:off x="8665200" y="783000"/>
                    <a:ext cx="87372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31"/>
                  <p:cNvSpPr/>
                  <p:nvPr/>
                </p:nvSpPr>
                <p:spPr>
                  <a:xfrm rot="463200">
                    <a:off x="9520200" y="878400"/>
                    <a:ext cx="46944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32"/>
                <p:cNvGrpSpPr/>
                <p:nvPr/>
              </p:nvGrpSpPr>
              <p:grpSpPr>
                <a:xfrm>
                  <a:off x="8678520" y="697680"/>
                  <a:ext cx="1219680" cy="203400"/>
                  <a:chOff x="8678520" y="697680"/>
                  <a:chExt cx="1219680" cy="203400"/>
                </a:xfrm>
              </p:grpSpPr>
              <p:sp>
                <p:nvSpPr>
                  <p:cNvPr id="113" name="Freeform 33"/>
                  <p:cNvSpPr/>
                  <p:nvPr/>
                </p:nvSpPr>
                <p:spPr>
                  <a:xfrm rot="21515400">
                    <a:off x="8679600" y="713520"/>
                    <a:ext cx="7938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34"/>
                  <p:cNvSpPr/>
                  <p:nvPr/>
                </p:nvSpPr>
                <p:spPr>
                  <a:xfrm rot="21515400">
                    <a:off x="9469440" y="702720"/>
                    <a:ext cx="42624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5"/>
                <p:cNvGrpSpPr/>
                <p:nvPr/>
              </p:nvGrpSpPr>
              <p:grpSpPr>
                <a:xfrm>
                  <a:off x="8649000" y="462240"/>
                  <a:ext cx="1084320" cy="361080"/>
                  <a:chOff x="8649000" y="462240"/>
                  <a:chExt cx="1084320" cy="361080"/>
                </a:xfrm>
              </p:grpSpPr>
              <p:sp>
                <p:nvSpPr>
                  <p:cNvPr id="116" name="Freeform 36"/>
                  <p:cNvSpPr/>
                  <p:nvPr/>
                </p:nvSpPr>
                <p:spPr>
                  <a:xfrm rot="20797200">
                    <a:off x="8653320" y="622800"/>
                    <a:ext cx="69768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37"/>
                  <p:cNvSpPr/>
                  <p:nvPr/>
                </p:nvSpPr>
                <p:spPr>
                  <a:xfrm rot="20797200">
                    <a:off x="9342000" y="502920"/>
                    <a:ext cx="3744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8"/>
                <p:cNvGrpSpPr/>
                <p:nvPr/>
              </p:nvGrpSpPr>
              <p:grpSpPr>
                <a:xfrm>
                  <a:off x="7208280" y="998640"/>
                  <a:ext cx="1173600" cy="1258560"/>
                  <a:chOff x="7208280" y="998640"/>
                  <a:chExt cx="1173600" cy="1258560"/>
                </a:xfrm>
              </p:grpSpPr>
              <p:sp>
                <p:nvSpPr>
                  <p:cNvPr id="119" name="Freeform 39"/>
                  <p:cNvSpPr/>
                  <p:nvPr/>
                </p:nvSpPr>
                <p:spPr>
                  <a:xfrm flipH="1" rot="18888600">
                    <a:off x="7487640" y="1318320"/>
                    <a:ext cx="9756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40"/>
                  <p:cNvSpPr/>
                  <p:nvPr/>
                </p:nvSpPr>
                <p:spPr>
                  <a:xfrm flipH="1" rot="18888600">
                    <a:off x="7229520" y="1834920"/>
                    <a:ext cx="52380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41"/>
                <p:cNvGrpSpPr/>
                <p:nvPr/>
              </p:nvGrpSpPr>
              <p:grpSpPr>
                <a:xfrm>
                  <a:off x="6950160" y="949320"/>
                  <a:ext cx="1395360" cy="1160280"/>
                  <a:chOff x="6950160" y="949320"/>
                  <a:chExt cx="1395360" cy="1160280"/>
                </a:xfrm>
              </p:grpSpPr>
              <p:sp>
                <p:nvSpPr>
                  <p:cNvPr id="122" name="Freeform 42"/>
                  <p:cNvSpPr/>
                  <p:nvPr/>
                </p:nvSpPr>
                <p:spPr>
                  <a:xfrm flipH="1" rot="19496400">
                    <a:off x="7355160" y="122616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43"/>
                  <p:cNvSpPr/>
                  <p:nvPr/>
                </p:nvSpPr>
                <p:spPr>
                  <a:xfrm flipH="1" rot="19496400">
                    <a:off x="6988320" y="1671120"/>
                    <a:ext cx="5511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4"/>
                <p:cNvGrpSpPr/>
                <p:nvPr/>
              </p:nvGrpSpPr>
              <p:grpSpPr>
                <a:xfrm>
                  <a:off x="6930720" y="911880"/>
                  <a:ext cx="1419480" cy="913680"/>
                  <a:chOff x="6930720" y="911880"/>
                  <a:chExt cx="1419480" cy="913680"/>
                </a:xfrm>
              </p:grpSpPr>
              <p:sp>
                <p:nvSpPr>
                  <p:cNvPr id="125" name="Freeform 45"/>
                  <p:cNvSpPr/>
                  <p:nvPr/>
                </p:nvSpPr>
                <p:spPr>
                  <a:xfrm flipH="1" rot="20017200">
                    <a:off x="7380720" y="1121040"/>
                    <a:ext cx="9817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46"/>
                  <p:cNvSpPr/>
                  <p:nvPr/>
                </p:nvSpPr>
                <p:spPr>
                  <a:xfrm flipH="1" rot="20017200">
                    <a:off x="6962760" y="1453320"/>
                    <a:ext cx="527040" cy="26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7"/>
                <p:cNvGrpSpPr/>
                <p:nvPr/>
              </p:nvGrpSpPr>
              <p:grpSpPr>
                <a:xfrm>
                  <a:off x="6916320" y="868320"/>
                  <a:ext cx="1436760" cy="737640"/>
                  <a:chOff x="6916320" y="868320"/>
                  <a:chExt cx="1436760" cy="737640"/>
                </a:xfrm>
              </p:grpSpPr>
              <p:sp>
                <p:nvSpPr>
                  <p:cNvPr id="128" name="Freeform 48"/>
                  <p:cNvSpPr/>
                  <p:nvPr/>
                </p:nvSpPr>
                <p:spPr>
                  <a:xfrm flipH="1" rot="20520000">
                    <a:off x="7398360" y="1010160"/>
                    <a:ext cx="9482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9"/>
                  <p:cNvSpPr/>
                  <p:nvPr/>
                </p:nvSpPr>
                <p:spPr>
                  <a:xfrm flipH="1" rot="20520000">
                    <a:off x="6949080" y="123660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50"/>
                <p:cNvGrpSpPr/>
                <p:nvPr/>
              </p:nvGrpSpPr>
              <p:grpSpPr>
                <a:xfrm>
                  <a:off x="6988320" y="826560"/>
                  <a:ext cx="1348200" cy="458640"/>
                  <a:chOff x="6988320" y="826560"/>
                  <a:chExt cx="1348200" cy="458640"/>
                </a:xfrm>
              </p:grpSpPr>
              <p:sp>
                <p:nvSpPr>
                  <p:cNvPr id="131" name="Freeform 51"/>
                  <p:cNvSpPr/>
                  <p:nvPr/>
                </p:nvSpPr>
                <p:spPr>
                  <a:xfrm flipH="1" rot="21136800">
                    <a:off x="7455240" y="884160"/>
                    <a:ext cx="8733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52"/>
                  <p:cNvSpPr/>
                  <p:nvPr/>
                </p:nvSpPr>
                <p:spPr>
                  <a:xfrm flipH="1" rot="21136800">
                    <a:off x="7004520" y="979200"/>
                    <a:ext cx="46908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53"/>
                <p:cNvGrpSpPr/>
                <p:nvPr/>
              </p:nvGrpSpPr>
              <p:grpSpPr>
                <a:xfrm>
                  <a:off x="7095960" y="797040"/>
                  <a:ext cx="1220040" cy="203760"/>
                  <a:chOff x="7095960" y="797040"/>
                  <a:chExt cx="1220040" cy="203760"/>
                </a:xfrm>
              </p:grpSpPr>
              <p:sp>
                <p:nvSpPr>
                  <p:cNvPr id="134" name="Freeform 54"/>
                  <p:cNvSpPr/>
                  <p:nvPr/>
                </p:nvSpPr>
                <p:spPr>
                  <a:xfrm flipH="1" rot="84600">
                    <a:off x="7520040" y="813240"/>
                    <a:ext cx="79416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55"/>
                  <p:cNvSpPr/>
                  <p:nvPr/>
                </p:nvSpPr>
                <p:spPr>
                  <a:xfrm flipH="1" rot="84600">
                    <a:off x="7097760" y="802080"/>
                    <a:ext cx="42624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6"/>
                <p:cNvGrpSpPr/>
                <p:nvPr/>
              </p:nvGrpSpPr>
              <p:grpSpPr>
                <a:xfrm>
                  <a:off x="7260120" y="562320"/>
                  <a:ext cx="1084320" cy="360360"/>
                  <a:chOff x="7260120" y="562320"/>
                  <a:chExt cx="1084320" cy="360360"/>
                </a:xfrm>
              </p:grpSpPr>
              <p:sp>
                <p:nvSpPr>
                  <p:cNvPr id="137" name="Freeform 57"/>
                  <p:cNvSpPr/>
                  <p:nvPr/>
                </p:nvSpPr>
                <p:spPr>
                  <a:xfrm flipH="1" rot="802800">
                    <a:off x="7641720" y="722520"/>
                    <a:ext cx="697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58"/>
                  <p:cNvSpPr/>
                  <p:nvPr/>
                </p:nvSpPr>
                <p:spPr>
                  <a:xfrm flipH="1" rot="802800">
                    <a:off x="7276680" y="603000"/>
                    <a:ext cx="3744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9"/>
                <p:cNvGrpSpPr/>
                <p:nvPr/>
              </p:nvGrpSpPr>
              <p:grpSpPr>
                <a:xfrm>
                  <a:off x="7318440" y="430560"/>
                  <a:ext cx="1066320" cy="498240"/>
                  <a:chOff x="7318440" y="430560"/>
                  <a:chExt cx="1066320" cy="498240"/>
                </a:xfrm>
              </p:grpSpPr>
              <p:sp>
                <p:nvSpPr>
                  <p:cNvPr id="140" name="Freeform 60"/>
                  <p:cNvSpPr/>
                  <p:nvPr/>
                </p:nvSpPr>
                <p:spPr>
                  <a:xfrm flipH="1" rot="1278000">
                    <a:off x="7688880" y="684000"/>
                    <a:ext cx="696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61"/>
                  <p:cNvSpPr/>
                  <p:nvPr/>
                </p:nvSpPr>
                <p:spPr>
                  <a:xfrm flipH="1" rot="1278000">
                    <a:off x="7340040" y="491760"/>
                    <a:ext cx="37440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62"/>
                <p:cNvGrpSpPr/>
                <p:nvPr/>
              </p:nvGrpSpPr>
              <p:grpSpPr>
                <a:xfrm>
                  <a:off x="7443720" y="245160"/>
                  <a:ext cx="995040" cy="691560"/>
                  <a:chOff x="7443720" y="245160"/>
                  <a:chExt cx="995040" cy="691560"/>
                </a:xfrm>
              </p:grpSpPr>
              <p:sp>
                <p:nvSpPr>
                  <p:cNvPr id="143" name="Freeform 63"/>
                  <p:cNvSpPr/>
                  <p:nvPr/>
                </p:nvSpPr>
                <p:spPr>
                  <a:xfrm flipH="1" rot="2028600">
                    <a:off x="7765200" y="631440"/>
                    <a:ext cx="698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64"/>
                  <p:cNvSpPr/>
                  <p:nvPr/>
                </p:nvSpPr>
                <p:spPr>
                  <a:xfrm flipH="1" rot="2028600">
                    <a:off x="7464240" y="333000"/>
                    <a:ext cx="374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65"/>
                <p:cNvGrpSpPr/>
                <p:nvPr/>
              </p:nvGrpSpPr>
              <p:grpSpPr>
                <a:xfrm>
                  <a:off x="7570800" y="63720"/>
                  <a:ext cx="911160" cy="839880"/>
                  <a:chOff x="7570800" y="63720"/>
                  <a:chExt cx="911160" cy="839880"/>
                </a:xfrm>
              </p:grpSpPr>
              <p:sp>
                <p:nvSpPr>
                  <p:cNvPr id="146" name="Freeform 66"/>
                  <p:cNvSpPr/>
                  <p:nvPr/>
                </p:nvSpPr>
                <p:spPr>
                  <a:xfrm flipH="1" rot="2664600">
                    <a:off x="7832880" y="551520"/>
                    <a:ext cx="7077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67"/>
                  <p:cNvSpPr/>
                  <p:nvPr/>
                </p:nvSpPr>
                <p:spPr>
                  <a:xfrm flipH="1" rot="2664600">
                    <a:off x="7582680" y="169560"/>
                    <a:ext cx="3805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8"/>
                <p:cNvGrpSpPr/>
                <p:nvPr/>
              </p:nvGrpSpPr>
              <p:grpSpPr>
                <a:xfrm>
                  <a:off x="7840440" y="17280"/>
                  <a:ext cx="669960" cy="865800"/>
                  <a:chOff x="7840440" y="17280"/>
                  <a:chExt cx="669960" cy="865800"/>
                </a:xfrm>
              </p:grpSpPr>
              <p:sp>
                <p:nvSpPr>
                  <p:cNvPr id="149" name="Freeform 69"/>
                  <p:cNvSpPr/>
                  <p:nvPr/>
                </p:nvSpPr>
                <p:spPr>
                  <a:xfrm flipH="1" rot="3474000">
                    <a:off x="7981560" y="525960"/>
                    <a:ext cx="6228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70"/>
                  <p:cNvSpPr/>
                  <p:nvPr/>
                </p:nvSpPr>
                <p:spPr>
                  <a:xfrm flipH="1" rot="3474000">
                    <a:off x="7842240" y="114120"/>
                    <a:ext cx="33444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71"/>
                <p:cNvGrpSpPr/>
                <p:nvPr/>
              </p:nvGrpSpPr>
              <p:grpSpPr>
                <a:xfrm>
                  <a:off x="8034840" y="-23760"/>
                  <a:ext cx="513720" cy="891720"/>
                  <a:chOff x="8034840" y="-23760"/>
                  <a:chExt cx="513720" cy="891720"/>
                </a:xfrm>
              </p:grpSpPr>
              <p:sp>
                <p:nvSpPr>
                  <p:cNvPr id="152" name="Freeform 72"/>
                  <p:cNvSpPr/>
                  <p:nvPr/>
                </p:nvSpPr>
                <p:spPr>
                  <a:xfrm flipH="1" rot="4126800">
                    <a:off x="8083440" y="505800"/>
                    <a:ext cx="5994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3"/>
                  <p:cNvSpPr/>
                  <p:nvPr/>
                </p:nvSpPr>
                <p:spPr>
                  <a:xfrm flipH="1" rot="4126800">
                    <a:off x="8020800" y="65160"/>
                    <a:ext cx="3222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4"/>
                <p:cNvGrpSpPr/>
                <p:nvPr/>
              </p:nvGrpSpPr>
              <p:grpSpPr>
                <a:xfrm>
                  <a:off x="8591760" y="299880"/>
                  <a:ext cx="1062000" cy="509760"/>
                  <a:chOff x="8591760" y="299880"/>
                  <a:chExt cx="1062000" cy="509760"/>
                </a:xfrm>
              </p:grpSpPr>
              <p:sp>
                <p:nvSpPr>
                  <p:cNvPr id="155" name="Freeform 75"/>
                  <p:cNvSpPr/>
                  <p:nvPr/>
                </p:nvSpPr>
                <p:spPr>
                  <a:xfrm rot="20274000">
                    <a:off x="8588880" y="561600"/>
                    <a:ext cx="6969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76"/>
                  <p:cNvSpPr/>
                  <p:nvPr/>
                </p:nvSpPr>
                <p:spPr>
                  <a:xfrm rot="20274000">
                    <a:off x="9257400" y="363240"/>
                    <a:ext cx="3740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7"/>
                <p:cNvGrpSpPr/>
                <p:nvPr/>
              </p:nvGrpSpPr>
              <p:grpSpPr>
                <a:xfrm>
                  <a:off x="8530560" y="150120"/>
                  <a:ext cx="1009800" cy="666720"/>
                  <a:chOff x="8530560" y="150120"/>
                  <a:chExt cx="1009800" cy="666720"/>
                </a:xfrm>
              </p:grpSpPr>
              <p:sp>
                <p:nvSpPr>
                  <p:cNvPr id="158" name="Freeform 78"/>
                  <p:cNvSpPr/>
                  <p:nvPr/>
                </p:nvSpPr>
                <p:spPr>
                  <a:xfrm rot="19678800">
                    <a:off x="8509680" y="519120"/>
                    <a:ext cx="69804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9"/>
                  <p:cNvSpPr/>
                  <p:nvPr/>
                </p:nvSpPr>
                <p:spPr>
                  <a:xfrm rot="19678800">
                    <a:off x="9142920" y="234720"/>
                    <a:ext cx="3747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Freeform 80"/>
                <p:cNvSpPr/>
                <p:nvPr/>
              </p:nvSpPr>
              <p:spPr>
                <a:xfrm flipH="1" rot="4578600">
                  <a:off x="8179920" y="536400"/>
                  <a:ext cx="581400" cy="820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 flipH="1" rot="4578600">
                  <a:off x="8193240" y="110520"/>
                  <a:ext cx="311400" cy="129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82"/>
                <p:cNvGrpSpPr/>
                <p:nvPr/>
              </p:nvGrpSpPr>
              <p:grpSpPr>
                <a:xfrm>
                  <a:off x="8451000" y="-12960"/>
                  <a:ext cx="549000" cy="871920"/>
                  <a:chOff x="8451000" y="-12960"/>
                  <a:chExt cx="549000" cy="871920"/>
                </a:xfrm>
              </p:grpSpPr>
              <p:sp>
                <p:nvSpPr>
                  <p:cNvPr id="163" name="Freeform 83"/>
                  <p:cNvSpPr/>
                  <p:nvPr/>
                </p:nvSpPr>
                <p:spPr>
                  <a:xfrm rot="17742000">
                    <a:off x="8327520" y="513720"/>
                    <a:ext cx="600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84"/>
                  <p:cNvSpPr/>
                  <p:nvPr/>
                </p:nvSpPr>
                <p:spPr>
                  <a:xfrm rot="17742000">
                    <a:off x="8695440" y="85680"/>
                    <a:ext cx="3222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85"/>
                <p:cNvGrpSpPr/>
                <p:nvPr/>
              </p:nvGrpSpPr>
              <p:grpSpPr>
                <a:xfrm>
                  <a:off x="8448120" y="42480"/>
                  <a:ext cx="866160" cy="823680"/>
                  <a:chOff x="8448120" y="42480"/>
                  <a:chExt cx="866160" cy="823680"/>
                </a:xfrm>
              </p:grpSpPr>
              <p:sp>
                <p:nvSpPr>
                  <p:cNvPr id="166" name="Freeform 86"/>
                  <p:cNvSpPr/>
                  <p:nvPr/>
                </p:nvSpPr>
                <p:spPr>
                  <a:xfrm rot="18822600">
                    <a:off x="8402040" y="501120"/>
                    <a:ext cx="653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87"/>
                  <p:cNvSpPr/>
                  <p:nvPr/>
                </p:nvSpPr>
                <p:spPr>
                  <a:xfrm rot="18822600">
                    <a:off x="8931600" y="132120"/>
                    <a:ext cx="35064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88"/>
                <p:cNvGrpSpPr/>
                <p:nvPr/>
              </p:nvGrpSpPr>
              <p:grpSpPr>
                <a:xfrm>
                  <a:off x="8498520" y="-1440"/>
                  <a:ext cx="195480" cy="822600"/>
                  <a:chOff x="8498520" y="-1440"/>
                  <a:chExt cx="195480" cy="822600"/>
                </a:xfrm>
              </p:grpSpPr>
              <p:sp>
                <p:nvSpPr>
                  <p:cNvPr id="169" name="Freeform 89"/>
                  <p:cNvSpPr/>
                  <p:nvPr/>
                </p:nvSpPr>
                <p:spPr>
                  <a:xfrm rot="16696200">
                    <a:off x="8291520" y="526680"/>
                    <a:ext cx="5389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90"/>
                  <p:cNvSpPr/>
                  <p:nvPr/>
                </p:nvSpPr>
                <p:spPr>
                  <a:xfrm rot="16696200">
                    <a:off x="8490960" y="109080"/>
                    <a:ext cx="2890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91"/>
                <p:cNvGrpSpPr/>
                <p:nvPr/>
              </p:nvGrpSpPr>
              <p:grpSpPr>
                <a:xfrm>
                  <a:off x="7399440" y="1025280"/>
                  <a:ext cx="1006200" cy="1376280"/>
                  <a:chOff x="7399440" y="1025280"/>
                  <a:chExt cx="1006200" cy="1376280"/>
                </a:xfrm>
              </p:grpSpPr>
              <p:sp>
                <p:nvSpPr>
                  <p:cNvPr id="172" name="Freeform 92"/>
                  <p:cNvSpPr/>
                  <p:nvPr/>
                </p:nvSpPr>
                <p:spPr>
                  <a:xfrm flipH="1" rot="18336000">
                    <a:off x="7562880" y="1384560"/>
                    <a:ext cx="9745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93"/>
                  <p:cNvSpPr/>
                  <p:nvPr/>
                </p:nvSpPr>
                <p:spPr>
                  <a:xfrm flipH="1" rot="18336000">
                    <a:off x="7401960" y="1969920"/>
                    <a:ext cx="52272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94"/>
                <p:cNvGrpSpPr/>
                <p:nvPr/>
              </p:nvGrpSpPr>
              <p:grpSpPr>
                <a:xfrm>
                  <a:off x="7733160" y="1079640"/>
                  <a:ext cx="679680" cy="1375560"/>
                  <a:chOff x="7733160" y="1079640"/>
                  <a:chExt cx="679680" cy="1375560"/>
                </a:xfrm>
              </p:grpSpPr>
              <p:sp>
                <p:nvSpPr>
                  <p:cNvPr id="175" name="Freeform 95"/>
                  <p:cNvSpPr/>
                  <p:nvPr/>
                </p:nvSpPr>
                <p:spPr>
                  <a:xfrm flipH="1" rot="17543400">
                    <a:off x="7707960" y="1441800"/>
                    <a:ext cx="90216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6"/>
                  <p:cNvSpPr/>
                  <p:nvPr/>
                </p:nvSpPr>
                <p:spPr>
                  <a:xfrm flipH="1" rot="17543400">
                    <a:off x="7710840" y="2040120"/>
                    <a:ext cx="4838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7"/>
                <p:cNvGrpSpPr/>
                <p:nvPr/>
              </p:nvGrpSpPr>
              <p:grpSpPr>
                <a:xfrm>
                  <a:off x="8061120" y="1104120"/>
                  <a:ext cx="401040" cy="1342080"/>
                  <a:chOff x="8061120" y="1104120"/>
                  <a:chExt cx="401040" cy="1342080"/>
                </a:xfrm>
              </p:grpSpPr>
              <p:sp>
                <p:nvSpPr>
                  <p:cNvPr id="178" name="Freeform 98"/>
                  <p:cNvSpPr/>
                  <p:nvPr/>
                </p:nvSpPr>
                <p:spPr>
                  <a:xfrm flipH="1" rot="16870800">
                    <a:off x="7867440" y="1464480"/>
                    <a:ext cx="8654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9"/>
                  <p:cNvSpPr/>
                  <p:nvPr/>
                </p:nvSpPr>
                <p:spPr>
                  <a:xfrm flipH="1" rot="16870800">
                    <a:off x="7995960" y="2068920"/>
                    <a:ext cx="4647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00"/>
                <p:cNvGrpSpPr/>
                <p:nvPr/>
              </p:nvGrpSpPr>
              <p:grpSpPr>
                <a:xfrm>
                  <a:off x="8598240" y="1002600"/>
                  <a:ext cx="1047240" cy="1355040"/>
                  <a:chOff x="8598240" y="1002600"/>
                  <a:chExt cx="1047240" cy="1355040"/>
                </a:xfrm>
              </p:grpSpPr>
              <p:sp>
                <p:nvSpPr>
                  <p:cNvPr id="181" name="Freeform 101"/>
                  <p:cNvSpPr/>
                  <p:nvPr/>
                </p:nvSpPr>
                <p:spPr>
                  <a:xfrm rot="3144000">
                    <a:off x="8478000" y="1354320"/>
                    <a:ext cx="9752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02"/>
                  <p:cNvSpPr/>
                  <p:nvPr/>
                </p:nvSpPr>
                <p:spPr>
                  <a:xfrm rot="3144000">
                    <a:off x="9114120" y="1926720"/>
                    <a:ext cx="5230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3"/>
                <p:cNvGrpSpPr/>
                <p:nvPr/>
              </p:nvGrpSpPr>
              <p:grpSpPr>
                <a:xfrm>
                  <a:off x="8584200" y="1053720"/>
                  <a:ext cx="807840" cy="1391400"/>
                  <a:chOff x="8584200" y="1053720"/>
                  <a:chExt cx="807840" cy="1391400"/>
                </a:xfrm>
              </p:grpSpPr>
              <p:sp>
                <p:nvSpPr>
                  <p:cNvPr id="184" name="Freeform 104"/>
                  <p:cNvSpPr/>
                  <p:nvPr/>
                </p:nvSpPr>
                <p:spPr>
                  <a:xfrm rot="3745200">
                    <a:off x="8408520" y="1421640"/>
                    <a:ext cx="93348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 rot="3745200">
                    <a:off x="8907840" y="2028600"/>
                    <a:ext cx="500400" cy="26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6"/>
                <p:cNvGrpSpPr/>
                <p:nvPr/>
              </p:nvGrpSpPr>
              <p:grpSpPr>
                <a:xfrm>
                  <a:off x="8552160" y="1108080"/>
                  <a:ext cx="562320" cy="1369800"/>
                  <a:chOff x="8552160" y="1108080"/>
                  <a:chExt cx="562320" cy="1369800"/>
                </a:xfrm>
              </p:grpSpPr>
              <p:sp>
                <p:nvSpPr>
                  <p:cNvPr id="187" name="Freeform 107"/>
                  <p:cNvSpPr/>
                  <p:nvPr/>
                </p:nvSpPr>
                <p:spPr>
                  <a:xfrm rot="4286400">
                    <a:off x="8309520" y="1489320"/>
                    <a:ext cx="9050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8"/>
                  <p:cNvSpPr/>
                  <p:nvPr/>
                </p:nvSpPr>
                <p:spPr>
                  <a:xfrm rot="4286400">
                    <a:off x="8690760" y="2103480"/>
                    <a:ext cx="48564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9"/>
                <p:cNvGrpSpPr/>
                <p:nvPr/>
              </p:nvGrpSpPr>
              <p:grpSpPr>
                <a:xfrm>
                  <a:off x="8525880" y="1167120"/>
                  <a:ext cx="320040" cy="1274400"/>
                  <a:chOff x="8525880" y="1167120"/>
                  <a:chExt cx="320040" cy="1274400"/>
                </a:xfrm>
              </p:grpSpPr>
              <p:sp>
                <p:nvSpPr>
                  <p:cNvPr id="190" name="Freeform 110"/>
                  <p:cNvSpPr/>
                  <p:nvPr/>
                </p:nvSpPr>
                <p:spPr>
                  <a:xfrm rot="4898400">
                    <a:off x="8238960" y="1519200"/>
                    <a:ext cx="8323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11"/>
                  <p:cNvSpPr/>
                  <p:nvPr/>
                </p:nvSpPr>
                <p:spPr>
                  <a:xfrm rot="4898400">
                    <a:off x="8481960" y="2095200"/>
                    <a:ext cx="44676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12"/>
                <p:cNvGrpSpPr/>
                <p:nvPr/>
              </p:nvGrpSpPr>
              <p:grpSpPr>
                <a:xfrm>
                  <a:off x="8268840" y="1188360"/>
                  <a:ext cx="304920" cy="1247400"/>
                  <a:chOff x="8268840" y="1188360"/>
                  <a:chExt cx="304920" cy="1247400"/>
                </a:xfrm>
              </p:grpSpPr>
              <p:sp>
                <p:nvSpPr>
                  <p:cNvPr id="193" name="Freeform 113"/>
                  <p:cNvSpPr/>
                  <p:nvPr/>
                </p:nvSpPr>
                <p:spPr>
                  <a:xfrm rot="5755200">
                    <a:off x="8071920" y="1545120"/>
                    <a:ext cx="813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14"/>
                  <p:cNvSpPr/>
                  <p:nvPr/>
                </p:nvSpPr>
                <p:spPr>
                  <a:xfrm rot="5755200">
                    <a:off x="8156160" y="2126520"/>
                    <a:ext cx="4363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Freeform 115"/>
              <p:cNvSpPr/>
              <p:nvPr/>
            </p:nvSpPr>
            <p:spPr>
              <a:xfrm flipH="1">
                <a:off x="8043120" y="1347840"/>
                <a:ext cx="275400" cy="836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Arc 116"/>
              <p:cNvSpPr/>
              <p:nvPr/>
            </p:nvSpPr>
            <p:spPr>
              <a:xfrm flipH="1">
                <a:off x="7545240" y="1047240"/>
                <a:ext cx="1201320" cy="1302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Arc 117"/>
              <p:cNvSpPr/>
              <p:nvPr/>
            </p:nvSpPr>
            <p:spPr>
              <a:xfrm flipV="1">
                <a:off x="8628120" y="257040"/>
                <a:ext cx="1452240" cy="115740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Arc 118"/>
              <p:cNvSpPr/>
              <p:nvPr/>
            </p:nvSpPr>
            <p:spPr>
              <a:xfrm flipH="1">
                <a:off x="7666560" y="837000"/>
                <a:ext cx="702360" cy="13460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Arc 119"/>
              <p:cNvSpPr/>
              <p:nvPr/>
            </p:nvSpPr>
            <p:spPr>
              <a:xfrm flipH="1">
                <a:off x="7168680" y="906120"/>
                <a:ext cx="1140840" cy="13449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Arc 120"/>
              <p:cNvSpPr/>
              <p:nvPr/>
            </p:nvSpPr>
            <p:spPr>
              <a:xfrm flipH="1">
                <a:off x="7067520" y="660960"/>
                <a:ext cx="1344600" cy="13460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Arc 121"/>
              <p:cNvSpPr/>
              <p:nvPr/>
            </p:nvSpPr>
            <p:spPr>
              <a:xfrm>
                <a:off x="8557200" y="849600"/>
                <a:ext cx="214920" cy="13464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Arc 122"/>
              <p:cNvSpPr/>
              <p:nvPr/>
            </p:nvSpPr>
            <p:spPr>
              <a:xfrm>
                <a:off x="8613720" y="844200"/>
                <a:ext cx="568080" cy="13460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Arc 123"/>
              <p:cNvSpPr/>
              <p:nvPr/>
            </p:nvSpPr>
            <p:spPr>
              <a:xfrm>
                <a:off x="8664120" y="668160"/>
                <a:ext cx="806400" cy="13460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24"/>
              <p:cNvSpPr/>
              <p:nvPr/>
            </p:nvSpPr>
            <p:spPr>
              <a:xfrm>
                <a:off x="8818560" y="1490400"/>
                <a:ext cx="273960" cy="83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25"/>
              <p:cNvSpPr/>
              <p:nvPr/>
            </p:nvSpPr>
            <p:spPr>
              <a:xfrm flipV="1" rot="19660800">
                <a:off x="8391240" y="1215360"/>
                <a:ext cx="249120" cy="47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rc 126"/>
              <p:cNvSpPr/>
              <p:nvPr/>
            </p:nvSpPr>
            <p:spPr>
              <a:xfrm flipH="1">
                <a:off x="6991200" y="460080"/>
                <a:ext cx="1436760" cy="134604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rc 127"/>
              <p:cNvSpPr/>
              <p:nvPr/>
            </p:nvSpPr>
            <p:spPr>
              <a:xfrm flipH="1">
                <a:off x="7396560" y="177120"/>
                <a:ext cx="1045800" cy="130284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Arc 128"/>
              <p:cNvSpPr/>
              <p:nvPr/>
            </p:nvSpPr>
            <p:spPr>
              <a:xfrm>
                <a:off x="8513640" y="724320"/>
                <a:ext cx="431280" cy="13042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29"/>
              <p:cNvSpPr/>
              <p:nvPr/>
            </p:nvSpPr>
            <p:spPr>
              <a:xfrm flipH="1">
                <a:off x="7226280" y="1416600"/>
                <a:ext cx="61308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30"/>
              <p:cNvSpPr/>
              <p:nvPr/>
            </p:nvSpPr>
            <p:spPr>
              <a:xfrm flipH="1">
                <a:off x="7515720" y="504720"/>
                <a:ext cx="393840" cy="862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31"/>
              <p:cNvSpPr/>
              <p:nvPr/>
            </p:nvSpPr>
            <p:spPr>
              <a:xfrm flipH="1">
                <a:off x="7967880" y="248040"/>
                <a:ext cx="23652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32"/>
              <p:cNvSpPr/>
              <p:nvPr/>
            </p:nvSpPr>
            <p:spPr>
              <a:xfrm>
                <a:off x="9439920" y="1289880"/>
                <a:ext cx="569880" cy="90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133"/>
              <p:cNvSpPr/>
              <p:nvPr/>
            </p:nvSpPr>
            <p:spPr>
              <a:xfrm>
                <a:off x="9144360" y="830880"/>
                <a:ext cx="8582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134"/>
              <p:cNvSpPr/>
              <p:nvPr/>
            </p:nvSpPr>
            <p:spPr>
              <a:xfrm>
                <a:off x="9176040" y="190440"/>
                <a:ext cx="375120" cy="810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35"/>
              <p:cNvSpPr/>
              <p:nvPr/>
            </p:nvSpPr>
            <p:spPr>
              <a:xfrm rot="20253000">
                <a:off x="8805240" y="863640"/>
                <a:ext cx="25092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36"/>
              <p:cNvSpPr/>
              <p:nvPr/>
            </p:nvSpPr>
            <p:spPr>
              <a:xfrm flipH="1" rot="1347000">
                <a:off x="7913880" y="851040"/>
                <a:ext cx="24948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spcBef>
                <a:spcPts val="876"/>
              </a:spcBef>
              <a:buClr>
                <a:srgbClr val="fe1f08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−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5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6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3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4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5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8367B15-723E-4AE4-9CBE-4B10475672ED}" type="slidenum"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6916320" y="-23760"/>
            <a:ext cx="3164040" cy="3611520"/>
            <a:chOff x="6916320" y="-23760"/>
            <a:chExt cx="3164040" cy="3611520"/>
          </a:xfrm>
        </p:grpSpPr>
        <p:grpSp>
          <p:nvGrpSpPr>
            <p:cNvPr id="259" name="Group 3"/>
            <p:cNvGrpSpPr/>
            <p:nvPr/>
          </p:nvGrpSpPr>
          <p:grpSpPr>
            <a:xfrm>
              <a:off x="8342280" y="2756520"/>
              <a:ext cx="1107720" cy="831240"/>
              <a:chOff x="8342280" y="2756520"/>
              <a:chExt cx="1107720" cy="831240"/>
            </a:xfrm>
          </p:grpSpPr>
          <p:sp>
            <p:nvSpPr>
              <p:cNvPr id="260" name="Oval 4"/>
              <p:cNvSpPr/>
              <p:nvPr/>
            </p:nvSpPr>
            <p:spPr>
              <a:xfrm>
                <a:off x="8342280" y="2756520"/>
                <a:ext cx="110772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"/>
              <p:cNvSpPr/>
              <p:nvPr/>
            </p:nvSpPr>
            <p:spPr>
              <a:xfrm>
                <a:off x="8740080" y="312012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6"/>
            <p:cNvGrpSpPr/>
            <p:nvPr/>
          </p:nvGrpSpPr>
          <p:grpSpPr>
            <a:xfrm>
              <a:off x="8597520" y="1591560"/>
              <a:ext cx="1108080" cy="831240"/>
              <a:chOff x="8597520" y="1591560"/>
              <a:chExt cx="1108080" cy="831240"/>
            </a:xfrm>
          </p:grpSpPr>
          <p:sp>
            <p:nvSpPr>
              <p:cNvPr id="263" name="Oval 7"/>
              <p:cNvSpPr/>
              <p:nvPr/>
            </p:nvSpPr>
            <p:spPr>
              <a:xfrm>
                <a:off x="8597520" y="159156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8"/>
              <p:cNvSpPr/>
              <p:nvPr/>
            </p:nvSpPr>
            <p:spPr>
              <a:xfrm>
                <a:off x="8995680" y="195516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9"/>
            <p:cNvGrpSpPr/>
            <p:nvPr/>
          </p:nvGrpSpPr>
          <p:grpSpPr>
            <a:xfrm>
              <a:off x="6977520" y="0"/>
              <a:ext cx="1108080" cy="831240"/>
              <a:chOff x="6977520" y="0"/>
              <a:chExt cx="1108080" cy="831240"/>
            </a:xfrm>
          </p:grpSpPr>
          <p:sp>
            <p:nvSpPr>
              <p:cNvPr id="266" name="Oval 10"/>
              <p:cNvSpPr/>
              <p:nvPr/>
            </p:nvSpPr>
            <p:spPr>
              <a:xfrm>
                <a:off x="6977520" y="0"/>
                <a:ext cx="1108080" cy="8312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>
                <a:off x="7375680" y="363600"/>
                <a:ext cx="266760" cy="1558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2"/>
            <p:cNvGrpSpPr/>
            <p:nvPr/>
          </p:nvGrpSpPr>
          <p:grpSpPr>
            <a:xfrm>
              <a:off x="6916320" y="-23760"/>
              <a:ext cx="3164040" cy="2501640"/>
              <a:chOff x="6916320" y="-23760"/>
              <a:chExt cx="3164040" cy="2501640"/>
            </a:xfrm>
          </p:grpSpPr>
          <p:grpSp>
            <p:nvGrpSpPr>
              <p:cNvPr id="269" name="Group 13"/>
              <p:cNvGrpSpPr/>
              <p:nvPr/>
            </p:nvGrpSpPr>
            <p:grpSpPr>
              <a:xfrm>
                <a:off x="7707240" y="444240"/>
                <a:ext cx="1652040" cy="1217880"/>
                <a:chOff x="7707240" y="444240"/>
                <a:chExt cx="1652040" cy="1217880"/>
              </a:xfrm>
            </p:grpSpPr>
            <p:sp>
              <p:nvSpPr>
                <p:cNvPr id="270" name="Oval 14"/>
                <p:cNvSpPr/>
                <p:nvPr/>
              </p:nvSpPr>
              <p:spPr>
                <a:xfrm>
                  <a:off x="7707240" y="444240"/>
                  <a:ext cx="1652040" cy="121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"/>
                <p:cNvSpPr/>
                <p:nvPr/>
              </p:nvSpPr>
              <p:spPr>
                <a:xfrm>
                  <a:off x="8338320" y="889560"/>
                  <a:ext cx="327600" cy="22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16"/>
              <p:cNvGrpSpPr/>
              <p:nvPr/>
            </p:nvGrpSpPr>
            <p:grpSpPr>
              <a:xfrm>
                <a:off x="6916320" y="-23760"/>
                <a:ext cx="3161520" cy="2501640"/>
                <a:chOff x="6916320" y="-23760"/>
                <a:chExt cx="3161520" cy="2501640"/>
              </a:xfrm>
            </p:grpSpPr>
            <p:grpSp>
              <p:nvGrpSpPr>
                <p:cNvPr id="273" name="Group 17"/>
                <p:cNvGrpSpPr/>
                <p:nvPr/>
              </p:nvGrpSpPr>
              <p:grpSpPr>
                <a:xfrm>
                  <a:off x="8637120" y="929160"/>
                  <a:ext cx="1173240" cy="1258200"/>
                  <a:chOff x="8637120" y="929160"/>
                  <a:chExt cx="1173240" cy="1258200"/>
                </a:xfrm>
              </p:grpSpPr>
              <p:sp>
                <p:nvSpPr>
                  <p:cNvPr id="274" name="Freeform 18"/>
                  <p:cNvSpPr/>
                  <p:nvPr/>
                </p:nvSpPr>
                <p:spPr>
                  <a:xfrm rot="2711400">
                    <a:off x="8555400" y="1248840"/>
                    <a:ext cx="9752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19"/>
                  <p:cNvSpPr/>
                  <p:nvPr/>
                </p:nvSpPr>
                <p:spPr>
                  <a:xfrm rot="2711400">
                    <a:off x="9266040" y="1765440"/>
                    <a:ext cx="52308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Group 20"/>
                <p:cNvGrpSpPr/>
                <p:nvPr/>
              </p:nvGrpSpPr>
              <p:grpSpPr>
                <a:xfrm>
                  <a:off x="8648640" y="849960"/>
                  <a:ext cx="1395000" cy="1160280"/>
                  <a:chOff x="8648640" y="849960"/>
                  <a:chExt cx="1395000" cy="1160280"/>
                </a:xfrm>
              </p:grpSpPr>
              <p:sp>
                <p:nvSpPr>
                  <p:cNvPr id="277" name="Freeform 21"/>
                  <p:cNvSpPr/>
                  <p:nvPr/>
                </p:nvSpPr>
                <p:spPr>
                  <a:xfrm rot="2103600">
                    <a:off x="8611560" y="112680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22"/>
                  <p:cNvSpPr/>
                  <p:nvPr/>
                </p:nvSpPr>
                <p:spPr>
                  <a:xfrm rot="2103600">
                    <a:off x="9454320" y="1571400"/>
                    <a:ext cx="55080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23"/>
                <p:cNvGrpSpPr/>
                <p:nvPr/>
              </p:nvGrpSpPr>
              <p:grpSpPr>
                <a:xfrm>
                  <a:off x="8643960" y="811080"/>
                  <a:ext cx="1419480" cy="913320"/>
                  <a:chOff x="8643960" y="811080"/>
                  <a:chExt cx="1419480" cy="913320"/>
                </a:xfrm>
              </p:grpSpPr>
              <p:sp>
                <p:nvSpPr>
                  <p:cNvPr id="280" name="Freeform 24"/>
                  <p:cNvSpPr/>
                  <p:nvPr/>
                </p:nvSpPr>
                <p:spPr>
                  <a:xfrm rot="1582800">
                    <a:off x="8631000" y="1019880"/>
                    <a:ext cx="98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25"/>
                  <p:cNvSpPr/>
                  <p:nvPr/>
                </p:nvSpPr>
                <p:spPr>
                  <a:xfrm rot="1582800">
                    <a:off x="9504000" y="1352520"/>
                    <a:ext cx="526680" cy="26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Group 26"/>
                <p:cNvGrpSpPr/>
                <p:nvPr/>
              </p:nvGrpSpPr>
              <p:grpSpPr>
                <a:xfrm>
                  <a:off x="8640360" y="767160"/>
                  <a:ext cx="1437480" cy="738360"/>
                  <a:chOff x="8640360" y="767160"/>
                  <a:chExt cx="1437480" cy="738360"/>
                </a:xfrm>
              </p:grpSpPr>
              <p:sp>
                <p:nvSpPr>
                  <p:cNvPr id="283" name="Freeform 27"/>
                  <p:cNvSpPr/>
                  <p:nvPr/>
                </p:nvSpPr>
                <p:spPr>
                  <a:xfrm rot="1080000">
                    <a:off x="8646480" y="909000"/>
                    <a:ext cx="94824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28"/>
                  <p:cNvSpPr/>
                  <p:nvPr/>
                </p:nvSpPr>
                <p:spPr>
                  <a:xfrm rot="1080000">
                    <a:off x="9534600" y="113616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Group 29"/>
                <p:cNvGrpSpPr/>
                <p:nvPr/>
              </p:nvGrpSpPr>
              <p:grpSpPr>
                <a:xfrm>
                  <a:off x="8657280" y="725400"/>
                  <a:ext cx="1348920" cy="460440"/>
                  <a:chOff x="8657280" y="725400"/>
                  <a:chExt cx="1348920" cy="460440"/>
                </a:xfrm>
              </p:grpSpPr>
              <p:sp>
                <p:nvSpPr>
                  <p:cNvPr id="286" name="Freeform 30"/>
                  <p:cNvSpPr/>
                  <p:nvPr/>
                </p:nvSpPr>
                <p:spPr>
                  <a:xfrm rot="463200">
                    <a:off x="8665200" y="783000"/>
                    <a:ext cx="87372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31"/>
                  <p:cNvSpPr/>
                  <p:nvPr/>
                </p:nvSpPr>
                <p:spPr>
                  <a:xfrm rot="463200">
                    <a:off x="9520200" y="878400"/>
                    <a:ext cx="46944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32"/>
                <p:cNvGrpSpPr/>
                <p:nvPr/>
              </p:nvGrpSpPr>
              <p:grpSpPr>
                <a:xfrm>
                  <a:off x="8678520" y="697680"/>
                  <a:ext cx="1219680" cy="203400"/>
                  <a:chOff x="8678520" y="697680"/>
                  <a:chExt cx="1219680" cy="203400"/>
                </a:xfrm>
              </p:grpSpPr>
              <p:sp>
                <p:nvSpPr>
                  <p:cNvPr id="289" name="Freeform 33"/>
                  <p:cNvSpPr/>
                  <p:nvPr/>
                </p:nvSpPr>
                <p:spPr>
                  <a:xfrm rot="21515400">
                    <a:off x="8679600" y="713520"/>
                    <a:ext cx="7938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34"/>
                  <p:cNvSpPr/>
                  <p:nvPr/>
                </p:nvSpPr>
                <p:spPr>
                  <a:xfrm rot="21515400">
                    <a:off x="9469440" y="702720"/>
                    <a:ext cx="42624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Group 35"/>
                <p:cNvGrpSpPr/>
                <p:nvPr/>
              </p:nvGrpSpPr>
              <p:grpSpPr>
                <a:xfrm>
                  <a:off x="8649000" y="462240"/>
                  <a:ext cx="1084320" cy="361080"/>
                  <a:chOff x="8649000" y="462240"/>
                  <a:chExt cx="1084320" cy="361080"/>
                </a:xfrm>
              </p:grpSpPr>
              <p:sp>
                <p:nvSpPr>
                  <p:cNvPr id="292" name="Freeform 36"/>
                  <p:cNvSpPr/>
                  <p:nvPr/>
                </p:nvSpPr>
                <p:spPr>
                  <a:xfrm rot="20797200">
                    <a:off x="8653320" y="622800"/>
                    <a:ext cx="69768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37"/>
                  <p:cNvSpPr/>
                  <p:nvPr/>
                </p:nvSpPr>
                <p:spPr>
                  <a:xfrm rot="20797200">
                    <a:off x="9342000" y="502920"/>
                    <a:ext cx="3744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38"/>
                <p:cNvGrpSpPr/>
                <p:nvPr/>
              </p:nvGrpSpPr>
              <p:grpSpPr>
                <a:xfrm>
                  <a:off x="7208280" y="998640"/>
                  <a:ext cx="1173600" cy="1258560"/>
                  <a:chOff x="7208280" y="998640"/>
                  <a:chExt cx="1173600" cy="1258560"/>
                </a:xfrm>
              </p:grpSpPr>
              <p:sp>
                <p:nvSpPr>
                  <p:cNvPr id="295" name="Freeform 39"/>
                  <p:cNvSpPr/>
                  <p:nvPr/>
                </p:nvSpPr>
                <p:spPr>
                  <a:xfrm flipH="1" rot="18888600">
                    <a:off x="7487640" y="1318320"/>
                    <a:ext cx="9756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40"/>
                  <p:cNvSpPr/>
                  <p:nvPr/>
                </p:nvSpPr>
                <p:spPr>
                  <a:xfrm flipH="1" rot="18888600">
                    <a:off x="7229520" y="1834920"/>
                    <a:ext cx="52380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41"/>
                <p:cNvGrpSpPr/>
                <p:nvPr/>
              </p:nvGrpSpPr>
              <p:grpSpPr>
                <a:xfrm>
                  <a:off x="6950160" y="949320"/>
                  <a:ext cx="1395360" cy="1160280"/>
                  <a:chOff x="6950160" y="949320"/>
                  <a:chExt cx="1395360" cy="1160280"/>
                </a:xfrm>
              </p:grpSpPr>
              <p:sp>
                <p:nvSpPr>
                  <p:cNvPr id="298" name="Freeform 42"/>
                  <p:cNvSpPr/>
                  <p:nvPr/>
                </p:nvSpPr>
                <p:spPr>
                  <a:xfrm flipH="1" rot="19496400">
                    <a:off x="7355160" y="1226160"/>
                    <a:ext cx="10263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43"/>
                  <p:cNvSpPr/>
                  <p:nvPr/>
                </p:nvSpPr>
                <p:spPr>
                  <a:xfrm flipH="1" rot="19496400">
                    <a:off x="6988320" y="1671120"/>
                    <a:ext cx="5511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44"/>
                <p:cNvGrpSpPr/>
                <p:nvPr/>
              </p:nvGrpSpPr>
              <p:grpSpPr>
                <a:xfrm>
                  <a:off x="6930720" y="911880"/>
                  <a:ext cx="1419480" cy="913680"/>
                  <a:chOff x="6930720" y="911880"/>
                  <a:chExt cx="1419480" cy="913680"/>
                </a:xfrm>
              </p:grpSpPr>
              <p:sp>
                <p:nvSpPr>
                  <p:cNvPr id="301" name="Freeform 45"/>
                  <p:cNvSpPr/>
                  <p:nvPr/>
                </p:nvSpPr>
                <p:spPr>
                  <a:xfrm flipH="1" rot="20017200">
                    <a:off x="7380720" y="1121040"/>
                    <a:ext cx="9817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46"/>
                  <p:cNvSpPr/>
                  <p:nvPr/>
                </p:nvSpPr>
                <p:spPr>
                  <a:xfrm flipH="1" rot="20017200">
                    <a:off x="6962760" y="1453320"/>
                    <a:ext cx="527040" cy="26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47"/>
                <p:cNvGrpSpPr/>
                <p:nvPr/>
              </p:nvGrpSpPr>
              <p:grpSpPr>
                <a:xfrm>
                  <a:off x="6916320" y="868320"/>
                  <a:ext cx="1436760" cy="737640"/>
                  <a:chOff x="6916320" y="868320"/>
                  <a:chExt cx="1436760" cy="737640"/>
                </a:xfrm>
              </p:grpSpPr>
              <p:sp>
                <p:nvSpPr>
                  <p:cNvPr id="304" name="Freeform 48"/>
                  <p:cNvSpPr/>
                  <p:nvPr/>
                </p:nvSpPr>
                <p:spPr>
                  <a:xfrm flipH="1" rot="20520000">
                    <a:off x="7398360" y="1010160"/>
                    <a:ext cx="9482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49"/>
                  <p:cNvSpPr/>
                  <p:nvPr/>
                </p:nvSpPr>
                <p:spPr>
                  <a:xfrm flipH="1" rot="20520000">
                    <a:off x="6949080" y="1236600"/>
                    <a:ext cx="5094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50"/>
                <p:cNvGrpSpPr/>
                <p:nvPr/>
              </p:nvGrpSpPr>
              <p:grpSpPr>
                <a:xfrm>
                  <a:off x="6988320" y="826560"/>
                  <a:ext cx="1348200" cy="458640"/>
                  <a:chOff x="6988320" y="826560"/>
                  <a:chExt cx="1348200" cy="458640"/>
                </a:xfrm>
              </p:grpSpPr>
              <p:sp>
                <p:nvSpPr>
                  <p:cNvPr id="307" name="Freeform 51"/>
                  <p:cNvSpPr/>
                  <p:nvPr/>
                </p:nvSpPr>
                <p:spPr>
                  <a:xfrm flipH="1" rot="21136800">
                    <a:off x="7455240" y="884160"/>
                    <a:ext cx="8733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52"/>
                  <p:cNvSpPr/>
                  <p:nvPr/>
                </p:nvSpPr>
                <p:spPr>
                  <a:xfrm flipH="1" rot="21136800">
                    <a:off x="7004520" y="979200"/>
                    <a:ext cx="46908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53"/>
                <p:cNvGrpSpPr/>
                <p:nvPr/>
              </p:nvGrpSpPr>
              <p:grpSpPr>
                <a:xfrm>
                  <a:off x="7095960" y="797040"/>
                  <a:ext cx="1220040" cy="203760"/>
                  <a:chOff x="7095960" y="797040"/>
                  <a:chExt cx="1220040" cy="203760"/>
                </a:xfrm>
              </p:grpSpPr>
              <p:sp>
                <p:nvSpPr>
                  <p:cNvPr id="310" name="Freeform 54"/>
                  <p:cNvSpPr/>
                  <p:nvPr/>
                </p:nvSpPr>
                <p:spPr>
                  <a:xfrm flipH="1" rot="84600">
                    <a:off x="7520040" y="813240"/>
                    <a:ext cx="79416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55"/>
                  <p:cNvSpPr/>
                  <p:nvPr/>
                </p:nvSpPr>
                <p:spPr>
                  <a:xfrm flipH="1" rot="84600">
                    <a:off x="7097760" y="802080"/>
                    <a:ext cx="42624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56"/>
                <p:cNvGrpSpPr/>
                <p:nvPr/>
              </p:nvGrpSpPr>
              <p:grpSpPr>
                <a:xfrm>
                  <a:off x="7260120" y="562320"/>
                  <a:ext cx="1084320" cy="360360"/>
                  <a:chOff x="7260120" y="562320"/>
                  <a:chExt cx="1084320" cy="360360"/>
                </a:xfrm>
              </p:grpSpPr>
              <p:sp>
                <p:nvSpPr>
                  <p:cNvPr id="313" name="Freeform 57"/>
                  <p:cNvSpPr/>
                  <p:nvPr/>
                </p:nvSpPr>
                <p:spPr>
                  <a:xfrm flipH="1" rot="802800">
                    <a:off x="7641720" y="722520"/>
                    <a:ext cx="697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58"/>
                  <p:cNvSpPr/>
                  <p:nvPr/>
                </p:nvSpPr>
                <p:spPr>
                  <a:xfrm flipH="1" rot="802800">
                    <a:off x="7276680" y="603000"/>
                    <a:ext cx="3744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59"/>
                <p:cNvGrpSpPr/>
                <p:nvPr/>
              </p:nvGrpSpPr>
              <p:grpSpPr>
                <a:xfrm>
                  <a:off x="7318440" y="430560"/>
                  <a:ext cx="1066320" cy="498240"/>
                  <a:chOff x="7318440" y="430560"/>
                  <a:chExt cx="1066320" cy="498240"/>
                </a:xfrm>
              </p:grpSpPr>
              <p:sp>
                <p:nvSpPr>
                  <p:cNvPr id="316" name="Freeform 60"/>
                  <p:cNvSpPr/>
                  <p:nvPr/>
                </p:nvSpPr>
                <p:spPr>
                  <a:xfrm flipH="1" rot="1278000">
                    <a:off x="7688880" y="684000"/>
                    <a:ext cx="696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61"/>
                  <p:cNvSpPr/>
                  <p:nvPr/>
                </p:nvSpPr>
                <p:spPr>
                  <a:xfrm flipH="1" rot="1278000">
                    <a:off x="7340040" y="491760"/>
                    <a:ext cx="37440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62"/>
                <p:cNvGrpSpPr/>
                <p:nvPr/>
              </p:nvGrpSpPr>
              <p:grpSpPr>
                <a:xfrm>
                  <a:off x="7443720" y="245160"/>
                  <a:ext cx="995040" cy="691560"/>
                  <a:chOff x="7443720" y="245160"/>
                  <a:chExt cx="995040" cy="691560"/>
                </a:xfrm>
              </p:grpSpPr>
              <p:sp>
                <p:nvSpPr>
                  <p:cNvPr id="319" name="Freeform 63"/>
                  <p:cNvSpPr/>
                  <p:nvPr/>
                </p:nvSpPr>
                <p:spPr>
                  <a:xfrm flipH="1" rot="2028600">
                    <a:off x="7765200" y="631440"/>
                    <a:ext cx="698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64"/>
                  <p:cNvSpPr/>
                  <p:nvPr/>
                </p:nvSpPr>
                <p:spPr>
                  <a:xfrm flipH="1" rot="2028600">
                    <a:off x="7464240" y="333000"/>
                    <a:ext cx="37476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65"/>
                <p:cNvGrpSpPr/>
                <p:nvPr/>
              </p:nvGrpSpPr>
              <p:grpSpPr>
                <a:xfrm>
                  <a:off x="7570800" y="63720"/>
                  <a:ext cx="911160" cy="839880"/>
                  <a:chOff x="7570800" y="63720"/>
                  <a:chExt cx="911160" cy="839880"/>
                </a:xfrm>
              </p:grpSpPr>
              <p:sp>
                <p:nvSpPr>
                  <p:cNvPr id="322" name="Freeform 66"/>
                  <p:cNvSpPr/>
                  <p:nvPr/>
                </p:nvSpPr>
                <p:spPr>
                  <a:xfrm flipH="1" rot="2664600">
                    <a:off x="7832880" y="551520"/>
                    <a:ext cx="7077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67"/>
                  <p:cNvSpPr/>
                  <p:nvPr/>
                </p:nvSpPr>
                <p:spPr>
                  <a:xfrm flipH="1" rot="2664600">
                    <a:off x="7582680" y="169560"/>
                    <a:ext cx="3805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68"/>
                <p:cNvGrpSpPr/>
                <p:nvPr/>
              </p:nvGrpSpPr>
              <p:grpSpPr>
                <a:xfrm>
                  <a:off x="7840440" y="17280"/>
                  <a:ext cx="669960" cy="865800"/>
                  <a:chOff x="7840440" y="17280"/>
                  <a:chExt cx="669960" cy="865800"/>
                </a:xfrm>
              </p:grpSpPr>
              <p:sp>
                <p:nvSpPr>
                  <p:cNvPr id="325" name="Freeform 69"/>
                  <p:cNvSpPr/>
                  <p:nvPr/>
                </p:nvSpPr>
                <p:spPr>
                  <a:xfrm flipH="1" rot="3474000">
                    <a:off x="7981560" y="525960"/>
                    <a:ext cx="6228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70"/>
                  <p:cNvSpPr/>
                  <p:nvPr/>
                </p:nvSpPr>
                <p:spPr>
                  <a:xfrm flipH="1" rot="3474000">
                    <a:off x="7842240" y="114120"/>
                    <a:ext cx="33444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71"/>
                <p:cNvGrpSpPr/>
                <p:nvPr/>
              </p:nvGrpSpPr>
              <p:grpSpPr>
                <a:xfrm>
                  <a:off x="8034840" y="-23760"/>
                  <a:ext cx="513720" cy="891720"/>
                  <a:chOff x="8034840" y="-23760"/>
                  <a:chExt cx="513720" cy="891720"/>
                </a:xfrm>
              </p:grpSpPr>
              <p:sp>
                <p:nvSpPr>
                  <p:cNvPr id="328" name="Freeform 72"/>
                  <p:cNvSpPr/>
                  <p:nvPr/>
                </p:nvSpPr>
                <p:spPr>
                  <a:xfrm flipH="1" rot="4126800">
                    <a:off x="8083440" y="505800"/>
                    <a:ext cx="59940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73"/>
                  <p:cNvSpPr/>
                  <p:nvPr/>
                </p:nvSpPr>
                <p:spPr>
                  <a:xfrm flipH="1" rot="4126800">
                    <a:off x="8020800" y="65160"/>
                    <a:ext cx="3222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74"/>
                <p:cNvGrpSpPr/>
                <p:nvPr/>
              </p:nvGrpSpPr>
              <p:grpSpPr>
                <a:xfrm>
                  <a:off x="8591760" y="299880"/>
                  <a:ext cx="1062000" cy="509760"/>
                  <a:chOff x="8591760" y="299880"/>
                  <a:chExt cx="1062000" cy="509760"/>
                </a:xfrm>
              </p:grpSpPr>
              <p:sp>
                <p:nvSpPr>
                  <p:cNvPr id="331" name="Freeform 75"/>
                  <p:cNvSpPr/>
                  <p:nvPr/>
                </p:nvSpPr>
                <p:spPr>
                  <a:xfrm rot="20274000">
                    <a:off x="8588880" y="561600"/>
                    <a:ext cx="6969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76"/>
                  <p:cNvSpPr/>
                  <p:nvPr/>
                </p:nvSpPr>
                <p:spPr>
                  <a:xfrm rot="20274000">
                    <a:off x="9257400" y="363240"/>
                    <a:ext cx="3740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77"/>
                <p:cNvGrpSpPr/>
                <p:nvPr/>
              </p:nvGrpSpPr>
              <p:grpSpPr>
                <a:xfrm>
                  <a:off x="8530560" y="150120"/>
                  <a:ext cx="1009800" cy="666720"/>
                  <a:chOff x="8530560" y="150120"/>
                  <a:chExt cx="1009800" cy="666720"/>
                </a:xfrm>
              </p:grpSpPr>
              <p:sp>
                <p:nvSpPr>
                  <p:cNvPr id="334" name="Freeform 78"/>
                  <p:cNvSpPr/>
                  <p:nvPr/>
                </p:nvSpPr>
                <p:spPr>
                  <a:xfrm rot="19678800">
                    <a:off x="8509680" y="519120"/>
                    <a:ext cx="69804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79"/>
                  <p:cNvSpPr/>
                  <p:nvPr/>
                </p:nvSpPr>
                <p:spPr>
                  <a:xfrm rot="19678800">
                    <a:off x="9142920" y="234720"/>
                    <a:ext cx="3747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Freeform 80"/>
                <p:cNvSpPr/>
                <p:nvPr/>
              </p:nvSpPr>
              <p:spPr>
                <a:xfrm flipH="1" rot="4578600">
                  <a:off x="8179920" y="536400"/>
                  <a:ext cx="581400" cy="820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81"/>
                <p:cNvSpPr/>
                <p:nvPr/>
              </p:nvSpPr>
              <p:spPr>
                <a:xfrm flipH="1" rot="4578600">
                  <a:off x="8193240" y="110520"/>
                  <a:ext cx="311400" cy="1292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82"/>
                <p:cNvGrpSpPr/>
                <p:nvPr/>
              </p:nvGrpSpPr>
              <p:grpSpPr>
                <a:xfrm>
                  <a:off x="8451000" y="-12960"/>
                  <a:ext cx="549000" cy="871920"/>
                  <a:chOff x="8451000" y="-12960"/>
                  <a:chExt cx="549000" cy="871920"/>
                </a:xfrm>
              </p:grpSpPr>
              <p:sp>
                <p:nvSpPr>
                  <p:cNvPr id="339" name="Freeform 83"/>
                  <p:cNvSpPr/>
                  <p:nvPr/>
                </p:nvSpPr>
                <p:spPr>
                  <a:xfrm rot="17742000">
                    <a:off x="8327520" y="513720"/>
                    <a:ext cx="600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Freeform 84"/>
                  <p:cNvSpPr/>
                  <p:nvPr/>
                </p:nvSpPr>
                <p:spPr>
                  <a:xfrm rot="17742000">
                    <a:off x="8695440" y="85680"/>
                    <a:ext cx="3222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85"/>
                <p:cNvGrpSpPr/>
                <p:nvPr/>
              </p:nvGrpSpPr>
              <p:grpSpPr>
                <a:xfrm>
                  <a:off x="8448120" y="42480"/>
                  <a:ext cx="866160" cy="823680"/>
                  <a:chOff x="8448120" y="42480"/>
                  <a:chExt cx="866160" cy="823680"/>
                </a:xfrm>
              </p:grpSpPr>
              <p:sp>
                <p:nvSpPr>
                  <p:cNvPr id="342" name="Freeform 86"/>
                  <p:cNvSpPr/>
                  <p:nvPr/>
                </p:nvSpPr>
                <p:spPr>
                  <a:xfrm rot="18822600">
                    <a:off x="8402040" y="501120"/>
                    <a:ext cx="6534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7"/>
                  <p:cNvSpPr/>
                  <p:nvPr/>
                </p:nvSpPr>
                <p:spPr>
                  <a:xfrm rot="18822600">
                    <a:off x="8931600" y="132120"/>
                    <a:ext cx="35064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88"/>
                <p:cNvGrpSpPr/>
                <p:nvPr/>
              </p:nvGrpSpPr>
              <p:grpSpPr>
                <a:xfrm>
                  <a:off x="8498520" y="-1440"/>
                  <a:ext cx="195480" cy="822600"/>
                  <a:chOff x="8498520" y="-1440"/>
                  <a:chExt cx="195480" cy="822600"/>
                </a:xfrm>
              </p:grpSpPr>
              <p:sp>
                <p:nvSpPr>
                  <p:cNvPr id="345" name="Freeform 89"/>
                  <p:cNvSpPr/>
                  <p:nvPr/>
                </p:nvSpPr>
                <p:spPr>
                  <a:xfrm rot="16696200">
                    <a:off x="8291520" y="526680"/>
                    <a:ext cx="5389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90"/>
                  <p:cNvSpPr/>
                  <p:nvPr/>
                </p:nvSpPr>
                <p:spPr>
                  <a:xfrm rot="16696200">
                    <a:off x="8490960" y="109080"/>
                    <a:ext cx="2890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Group 91"/>
                <p:cNvGrpSpPr/>
                <p:nvPr/>
              </p:nvGrpSpPr>
              <p:grpSpPr>
                <a:xfrm>
                  <a:off x="7399440" y="1025280"/>
                  <a:ext cx="1006200" cy="1376280"/>
                  <a:chOff x="7399440" y="1025280"/>
                  <a:chExt cx="1006200" cy="1376280"/>
                </a:xfrm>
              </p:grpSpPr>
              <p:sp>
                <p:nvSpPr>
                  <p:cNvPr id="348" name="Freeform 92"/>
                  <p:cNvSpPr/>
                  <p:nvPr/>
                </p:nvSpPr>
                <p:spPr>
                  <a:xfrm flipH="1" rot="18336000">
                    <a:off x="7562880" y="1384560"/>
                    <a:ext cx="9745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Freeform 93"/>
                  <p:cNvSpPr/>
                  <p:nvPr/>
                </p:nvSpPr>
                <p:spPr>
                  <a:xfrm flipH="1" rot="18336000">
                    <a:off x="7401960" y="1969920"/>
                    <a:ext cx="52272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Group 94"/>
                <p:cNvGrpSpPr/>
                <p:nvPr/>
              </p:nvGrpSpPr>
              <p:grpSpPr>
                <a:xfrm>
                  <a:off x="7733160" y="1079640"/>
                  <a:ext cx="679680" cy="1375560"/>
                  <a:chOff x="7733160" y="1079640"/>
                  <a:chExt cx="679680" cy="1375560"/>
                </a:xfrm>
              </p:grpSpPr>
              <p:sp>
                <p:nvSpPr>
                  <p:cNvPr id="351" name="Freeform 95"/>
                  <p:cNvSpPr/>
                  <p:nvPr/>
                </p:nvSpPr>
                <p:spPr>
                  <a:xfrm flipH="1" rot="17543400">
                    <a:off x="7707960" y="1441800"/>
                    <a:ext cx="90216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96"/>
                  <p:cNvSpPr/>
                  <p:nvPr/>
                </p:nvSpPr>
                <p:spPr>
                  <a:xfrm flipH="1" rot="17543400">
                    <a:off x="7710840" y="2040120"/>
                    <a:ext cx="4838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97"/>
                <p:cNvGrpSpPr/>
                <p:nvPr/>
              </p:nvGrpSpPr>
              <p:grpSpPr>
                <a:xfrm>
                  <a:off x="8061120" y="1104120"/>
                  <a:ext cx="401040" cy="1342080"/>
                  <a:chOff x="8061120" y="1104120"/>
                  <a:chExt cx="401040" cy="1342080"/>
                </a:xfrm>
              </p:grpSpPr>
              <p:sp>
                <p:nvSpPr>
                  <p:cNvPr id="354" name="Freeform 98"/>
                  <p:cNvSpPr/>
                  <p:nvPr/>
                </p:nvSpPr>
                <p:spPr>
                  <a:xfrm flipH="1" rot="16870800">
                    <a:off x="7867440" y="1464480"/>
                    <a:ext cx="86544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99"/>
                  <p:cNvSpPr/>
                  <p:nvPr/>
                </p:nvSpPr>
                <p:spPr>
                  <a:xfrm flipH="1" rot="16870800">
                    <a:off x="7995960" y="2068920"/>
                    <a:ext cx="4647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100"/>
                <p:cNvGrpSpPr/>
                <p:nvPr/>
              </p:nvGrpSpPr>
              <p:grpSpPr>
                <a:xfrm>
                  <a:off x="8598240" y="1002600"/>
                  <a:ext cx="1047240" cy="1355040"/>
                  <a:chOff x="8598240" y="1002600"/>
                  <a:chExt cx="1047240" cy="1355040"/>
                </a:xfrm>
              </p:grpSpPr>
              <p:sp>
                <p:nvSpPr>
                  <p:cNvPr id="357" name="Freeform 101"/>
                  <p:cNvSpPr/>
                  <p:nvPr/>
                </p:nvSpPr>
                <p:spPr>
                  <a:xfrm rot="3144000">
                    <a:off x="8478000" y="1354320"/>
                    <a:ext cx="97524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02"/>
                  <p:cNvSpPr/>
                  <p:nvPr/>
                </p:nvSpPr>
                <p:spPr>
                  <a:xfrm rot="3144000">
                    <a:off x="9114120" y="1926720"/>
                    <a:ext cx="5230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103"/>
                <p:cNvGrpSpPr/>
                <p:nvPr/>
              </p:nvGrpSpPr>
              <p:grpSpPr>
                <a:xfrm>
                  <a:off x="8584200" y="1053720"/>
                  <a:ext cx="807840" cy="1391400"/>
                  <a:chOff x="8584200" y="1053720"/>
                  <a:chExt cx="807840" cy="1391400"/>
                </a:xfrm>
              </p:grpSpPr>
              <p:sp>
                <p:nvSpPr>
                  <p:cNvPr id="360" name="Freeform 104"/>
                  <p:cNvSpPr/>
                  <p:nvPr/>
                </p:nvSpPr>
                <p:spPr>
                  <a:xfrm rot="3745200">
                    <a:off x="8408520" y="1421640"/>
                    <a:ext cx="93348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105"/>
                  <p:cNvSpPr/>
                  <p:nvPr/>
                </p:nvSpPr>
                <p:spPr>
                  <a:xfrm rot="3745200">
                    <a:off x="8907840" y="2028600"/>
                    <a:ext cx="500400" cy="26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106"/>
                <p:cNvGrpSpPr/>
                <p:nvPr/>
              </p:nvGrpSpPr>
              <p:grpSpPr>
                <a:xfrm>
                  <a:off x="8552160" y="1108080"/>
                  <a:ext cx="562320" cy="1369800"/>
                  <a:chOff x="8552160" y="1108080"/>
                  <a:chExt cx="562320" cy="1369800"/>
                </a:xfrm>
              </p:grpSpPr>
              <p:sp>
                <p:nvSpPr>
                  <p:cNvPr id="363" name="Freeform 107"/>
                  <p:cNvSpPr/>
                  <p:nvPr/>
                </p:nvSpPr>
                <p:spPr>
                  <a:xfrm rot="4286400">
                    <a:off x="8309520" y="1489320"/>
                    <a:ext cx="9050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108"/>
                  <p:cNvSpPr/>
                  <p:nvPr/>
                </p:nvSpPr>
                <p:spPr>
                  <a:xfrm rot="4286400">
                    <a:off x="8690760" y="2103480"/>
                    <a:ext cx="48564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109"/>
                <p:cNvGrpSpPr/>
                <p:nvPr/>
              </p:nvGrpSpPr>
              <p:grpSpPr>
                <a:xfrm>
                  <a:off x="8525880" y="1167120"/>
                  <a:ext cx="320040" cy="1274400"/>
                  <a:chOff x="8525880" y="1167120"/>
                  <a:chExt cx="320040" cy="1274400"/>
                </a:xfrm>
              </p:grpSpPr>
              <p:sp>
                <p:nvSpPr>
                  <p:cNvPr id="366" name="Freeform 110"/>
                  <p:cNvSpPr/>
                  <p:nvPr/>
                </p:nvSpPr>
                <p:spPr>
                  <a:xfrm rot="4898400">
                    <a:off x="8238960" y="1519200"/>
                    <a:ext cx="8323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111"/>
                  <p:cNvSpPr/>
                  <p:nvPr/>
                </p:nvSpPr>
                <p:spPr>
                  <a:xfrm rot="4898400">
                    <a:off x="8481960" y="2095200"/>
                    <a:ext cx="44676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112"/>
                <p:cNvGrpSpPr/>
                <p:nvPr/>
              </p:nvGrpSpPr>
              <p:grpSpPr>
                <a:xfrm>
                  <a:off x="8268840" y="1188360"/>
                  <a:ext cx="304920" cy="1247400"/>
                  <a:chOff x="8268840" y="1188360"/>
                  <a:chExt cx="304920" cy="1247400"/>
                </a:xfrm>
              </p:grpSpPr>
              <p:sp>
                <p:nvSpPr>
                  <p:cNvPr id="369" name="Freeform 113"/>
                  <p:cNvSpPr/>
                  <p:nvPr/>
                </p:nvSpPr>
                <p:spPr>
                  <a:xfrm rot="5755200">
                    <a:off x="8071920" y="1545120"/>
                    <a:ext cx="813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114"/>
                  <p:cNvSpPr/>
                  <p:nvPr/>
                </p:nvSpPr>
                <p:spPr>
                  <a:xfrm rot="5755200">
                    <a:off x="8156160" y="2126520"/>
                    <a:ext cx="4363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1" name="Freeform 115"/>
              <p:cNvSpPr/>
              <p:nvPr/>
            </p:nvSpPr>
            <p:spPr>
              <a:xfrm flipH="1">
                <a:off x="8043120" y="1347840"/>
                <a:ext cx="275400" cy="836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Arc 116"/>
              <p:cNvSpPr/>
              <p:nvPr/>
            </p:nvSpPr>
            <p:spPr>
              <a:xfrm flipH="1">
                <a:off x="7545240" y="1047240"/>
                <a:ext cx="1201320" cy="1302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Arc 117"/>
              <p:cNvSpPr/>
              <p:nvPr/>
            </p:nvSpPr>
            <p:spPr>
              <a:xfrm flipV="1">
                <a:off x="8628120" y="257040"/>
                <a:ext cx="1452240" cy="115740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Arc 118"/>
              <p:cNvSpPr/>
              <p:nvPr/>
            </p:nvSpPr>
            <p:spPr>
              <a:xfrm flipH="1">
                <a:off x="7666560" y="837000"/>
                <a:ext cx="702360" cy="13460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Arc 119"/>
              <p:cNvSpPr/>
              <p:nvPr/>
            </p:nvSpPr>
            <p:spPr>
              <a:xfrm flipH="1">
                <a:off x="7168680" y="906120"/>
                <a:ext cx="1140840" cy="13449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Arc 120"/>
              <p:cNvSpPr/>
              <p:nvPr/>
            </p:nvSpPr>
            <p:spPr>
              <a:xfrm flipH="1">
                <a:off x="7067520" y="660960"/>
                <a:ext cx="1344600" cy="13460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Arc 121"/>
              <p:cNvSpPr/>
              <p:nvPr/>
            </p:nvSpPr>
            <p:spPr>
              <a:xfrm>
                <a:off x="8557200" y="849600"/>
                <a:ext cx="214920" cy="13464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Arc 122"/>
              <p:cNvSpPr/>
              <p:nvPr/>
            </p:nvSpPr>
            <p:spPr>
              <a:xfrm>
                <a:off x="8613720" y="844200"/>
                <a:ext cx="568080" cy="13460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Arc 123"/>
              <p:cNvSpPr/>
              <p:nvPr/>
            </p:nvSpPr>
            <p:spPr>
              <a:xfrm>
                <a:off x="8664120" y="668160"/>
                <a:ext cx="806400" cy="13460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124"/>
              <p:cNvSpPr/>
              <p:nvPr/>
            </p:nvSpPr>
            <p:spPr>
              <a:xfrm>
                <a:off x="8818560" y="1490400"/>
                <a:ext cx="273960" cy="83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25"/>
              <p:cNvSpPr/>
              <p:nvPr/>
            </p:nvSpPr>
            <p:spPr>
              <a:xfrm flipV="1" rot="19660800">
                <a:off x="8391240" y="1215360"/>
                <a:ext cx="249120" cy="47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Arc 126"/>
              <p:cNvSpPr/>
              <p:nvPr/>
            </p:nvSpPr>
            <p:spPr>
              <a:xfrm flipH="1">
                <a:off x="6991200" y="460080"/>
                <a:ext cx="1436760" cy="134604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Arc 127"/>
              <p:cNvSpPr/>
              <p:nvPr/>
            </p:nvSpPr>
            <p:spPr>
              <a:xfrm flipH="1">
                <a:off x="7396560" y="177120"/>
                <a:ext cx="1045800" cy="130284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Arc 128"/>
              <p:cNvSpPr/>
              <p:nvPr/>
            </p:nvSpPr>
            <p:spPr>
              <a:xfrm>
                <a:off x="8513640" y="724320"/>
                <a:ext cx="431280" cy="13042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129"/>
              <p:cNvSpPr/>
              <p:nvPr/>
            </p:nvSpPr>
            <p:spPr>
              <a:xfrm flipH="1">
                <a:off x="7226280" y="1416600"/>
                <a:ext cx="61308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130"/>
              <p:cNvSpPr/>
              <p:nvPr/>
            </p:nvSpPr>
            <p:spPr>
              <a:xfrm flipH="1">
                <a:off x="7515720" y="504720"/>
                <a:ext cx="393840" cy="862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31"/>
              <p:cNvSpPr/>
              <p:nvPr/>
            </p:nvSpPr>
            <p:spPr>
              <a:xfrm flipH="1">
                <a:off x="7967880" y="248040"/>
                <a:ext cx="236520" cy="861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32"/>
              <p:cNvSpPr/>
              <p:nvPr/>
            </p:nvSpPr>
            <p:spPr>
              <a:xfrm>
                <a:off x="9439920" y="1289880"/>
                <a:ext cx="569880" cy="90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33"/>
              <p:cNvSpPr/>
              <p:nvPr/>
            </p:nvSpPr>
            <p:spPr>
              <a:xfrm>
                <a:off x="9144360" y="830880"/>
                <a:ext cx="8582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34"/>
              <p:cNvSpPr/>
              <p:nvPr/>
            </p:nvSpPr>
            <p:spPr>
              <a:xfrm>
                <a:off x="9176040" y="190440"/>
                <a:ext cx="375120" cy="810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135"/>
              <p:cNvSpPr/>
              <p:nvPr/>
            </p:nvSpPr>
            <p:spPr>
              <a:xfrm rot="20253000">
                <a:off x="8805240" y="863640"/>
                <a:ext cx="25092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36"/>
              <p:cNvSpPr/>
              <p:nvPr/>
            </p:nvSpPr>
            <p:spPr>
              <a:xfrm flipH="1" rot="1347000">
                <a:off x="7913880" y="851040"/>
                <a:ext cx="249480" cy="474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spcBef>
                <a:spcPts val="876"/>
              </a:spcBef>
              <a:buClr>
                <a:srgbClr val="fe1f08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−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5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6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6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7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8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D04A5CB-2AF5-4C10-90BC-EDB4FF3225A0}" type="slidenum"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2"/>
          <p:cNvGrpSpPr/>
          <p:nvPr/>
        </p:nvGrpSpPr>
        <p:grpSpPr>
          <a:xfrm>
            <a:off x="2216160" y="270000"/>
            <a:ext cx="7603200" cy="6009840"/>
            <a:chOff x="2216160" y="270000"/>
            <a:chExt cx="7603200" cy="6009840"/>
          </a:xfrm>
        </p:grpSpPr>
        <p:grpSp>
          <p:nvGrpSpPr>
            <p:cNvPr id="435" name="Group 3"/>
            <p:cNvGrpSpPr/>
            <p:nvPr/>
          </p:nvGrpSpPr>
          <p:grpSpPr>
            <a:xfrm>
              <a:off x="3839040" y="1050840"/>
              <a:ext cx="1042920" cy="781920"/>
              <a:chOff x="3839040" y="1050840"/>
              <a:chExt cx="1042920" cy="781920"/>
            </a:xfrm>
          </p:grpSpPr>
          <p:sp>
            <p:nvSpPr>
              <p:cNvPr id="436" name="Oval 4"/>
              <p:cNvSpPr/>
              <p:nvPr/>
            </p:nvSpPr>
            <p:spPr>
              <a:xfrm>
                <a:off x="3839040" y="1050840"/>
                <a:ext cx="1042920" cy="781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5"/>
              <p:cNvSpPr/>
              <p:nvPr/>
            </p:nvSpPr>
            <p:spPr>
              <a:xfrm>
                <a:off x="4213440" y="1392840"/>
                <a:ext cx="250920" cy="1465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6"/>
            <p:cNvGrpSpPr/>
            <p:nvPr/>
          </p:nvGrpSpPr>
          <p:grpSpPr>
            <a:xfrm>
              <a:off x="2216160" y="270000"/>
              <a:ext cx="7603200" cy="6009840"/>
              <a:chOff x="2216160" y="270000"/>
              <a:chExt cx="7603200" cy="6009840"/>
            </a:xfrm>
          </p:grpSpPr>
          <p:grpSp>
            <p:nvGrpSpPr>
              <p:cNvPr id="439" name="Group 7"/>
              <p:cNvGrpSpPr/>
              <p:nvPr/>
            </p:nvGrpSpPr>
            <p:grpSpPr>
              <a:xfrm>
                <a:off x="2216160" y="270000"/>
                <a:ext cx="7597800" cy="6009840"/>
                <a:chOff x="2216160" y="270000"/>
                <a:chExt cx="7597800" cy="6009840"/>
              </a:xfrm>
            </p:grpSpPr>
            <p:grpSp>
              <p:nvGrpSpPr>
                <p:cNvPr id="440" name="Group 8"/>
                <p:cNvGrpSpPr/>
                <p:nvPr/>
              </p:nvGrpSpPr>
              <p:grpSpPr>
                <a:xfrm>
                  <a:off x="4117680" y="1395000"/>
                  <a:ext cx="3968640" cy="2923560"/>
                  <a:chOff x="4117680" y="1395000"/>
                  <a:chExt cx="3968640" cy="2923560"/>
                </a:xfrm>
              </p:grpSpPr>
              <p:sp>
                <p:nvSpPr>
                  <p:cNvPr id="441" name="Oval 9"/>
                  <p:cNvSpPr/>
                  <p:nvPr/>
                </p:nvSpPr>
                <p:spPr>
                  <a:xfrm>
                    <a:off x="4117680" y="1395000"/>
                    <a:ext cx="3968640" cy="292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10"/>
                  <p:cNvSpPr/>
                  <p:nvPr/>
                </p:nvSpPr>
                <p:spPr>
                  <a:xfrm>
                    <a:off x="5633640" y="2464560"/>
                    <a:ext cx="786960" cy="55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Group 11"/>
                <p:cNvGrpSpPr/>
                <p:nvPr/>
              </p:nvGrpSpPr>
              <p:grpSpPr>
                <a:xfrm>
                  <a:off x="2216160" y="270000"/>
                  <a:ext cx="7597800" cy="6009840"/>
                  <a:chOff x="2216160" y="270000"/>
                  <a:chExt cx="7597800" cy="6009840"/>
                </a:xfrm>
              </p:grpSpPr>
              <p:grpSp>
                <p:nvGrpSpPr>
                  <p:cNvPr id="444" name="Group 12"/>
                  <p:cNvGrpSpPr/>
                  <p:nvPr/>
                </p:nvGrpSpPr>
                <p:grpSpPr>
                  <a:xfrm>
                    <a:off x="6352920" y="2558880"/>
                    <a:ext cx="2820240" cy="3023640"/>
                    <a:chOff x="6352920" y="2558880"/>
                    <a:chExt cx="2820240" cy="3023640"/>
                  </a:xfrm>
                </p:grpSpPr>
                <p:sp>
                  <p:nvSpPr>
                    <p:cNvPr id="445" name="Freeform 13"/>
                    <p:cNvSpPr/>
                    <p:nvPr/>
                  </p:nvSpPr>
                  <p:spPr>
                    <a:xfrm rot="2711400">
                      <a:off x="6157440" y="332748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Freeform 14"/>
                    <p:cNvSpPr/>
                    <p:nvPr/>
                  </p:nvSpPr>
                  <p:spPr>
                    <a:xfrm rot="2711400">
                      <a:off x="7865280" y="456876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Group 15"/>
                  <p:cNvGrpSpPr/>
                  <p:nvPr/>
                </p:nvGrpSpPr>
                <p:grpSpPr>
                  <a:xfrm>
                    <a:off x="6379920" y="2367360"/>
                    <a:ext cx="3352680" cy="2788920"/>
                    <a:chOff x="6379920" y="2367360"/>
                    <a:chExt cx="3352680" cy="2788920"/>
                  </a:xfrm>
                </p:grpSpPr>
                <p:sp>
                  <p:nvSpPr>
                    <p:cNvPr id="448" name="Freeform 16"/>
                    <p:cNvSpPr/>
                    <p:nvPr/>
                  </p:nvSpPr>
                  <p:spPr>
                    <a:xfrm rot="2103600">
                      <a:off x="6291360" y="3032640"/>
                      <a:ext cx="246636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Freeform 17"/>
                    <p:cNvSpPr/>
                    <p:nvPr/>
                  </p:nvSpPr>
                  <p:spPr>
                    <a:xfrm rot="2103600">
                      <a:off x="8315640" y="4102200"/>
                      <a:ext cx="1324080" cy="74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Group 18"/>
                  <p:cNvGrpSpPr/>
                  <p:nvPr/>
                </p:nvGrpSpPr>
                <p:grpSpPr>
                  <a:xfrm>
                    <a:off x="6367320" y="2275920"/>
                    <a:ext cx="3414240" cy="2197080"/>
                    <a:chOff x="6367320" y="2275920"/>
                    <a:chExt cx="3414240" cy="2197080"/>
                  </a:xfrm>
                </p:grpSpPr>
                <p:sp>
                  <p:nvSpPr>
                    <p:cNvPr id="451" name="Freeform 19"/>
                    <p:cNvSpPr/>
                    <p:nvPr/>
                  </p:nvSpPr>
                  <p:spPr>
                    <a:xfrm rot="1582800">
                      <a:off x="6336000" y="2778480"/>
                      <a:ext cx="236016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Freeform 20"/>
                    <p:cNvSpPr/>
                    <p:nvPr/>
                  </p:nvSpPr>
                  <p:spPr>
                    <a:xfrm rot="1582800">
                      <a:off x="8436600" y="357804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Group 21"/>
                  <p:cNvGrpSpPr/>
                  <p:nvPr/>
                </p:nvGrpSpPr>
                <p:grpSpPr>
                  <a:xfrm>
                    <a:off x="6358320" y="2171520"/>
                    <a:ext cx="3455640" cy="1772280"/>
                    <a:chOff x="6358320" y="2171520"/>
                    <a:chExt cx="3455640" cy="1772280"/>
                  </a:xfrm>
                </p:grpSpPr>
                <p:sp>
                  <p:nvSpPr>
                    <p:cNvPr id="454" name="Freeform 22"/>
                    <p:cNvSpPr/>
                    <p:nvPr/>
                  </p:nvSpPr>
                  <p:spPr>
                    <a:xfrm rot="1080000">
                      <a:off x="6372720" y="2512440"/>
                      <a:ext cx="2279880" cy="45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Freeform 23"/>
                    <p:cNvSpPr/>
                    <p:nvPr/>
                  </p:nvSpPr>
                  <p:spPr>
                    <a:xfrm rot="1080000">
                      <a:off x="8508960" y="3057480"/>
                      <a:ext cx="1224720" cy="71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Group 24"/>
                  <p:cNvGrpSpPr/>
                  <p:nvPr/>
                </p:nvGrpSpPr>
                <p:grpSpPr>
                  <a:xfrm>
                    <a:off x="6400440" y="2071440"/>
                    <a:ext cx="3242520" cy="1104480"/>
                    <a:chOff x="6400440" y="2071440"/>
                    <a:chExt cx="3242520" cy="1104480"/>
                  </a:xfrm>
                </p:grpSpPr>
                <p:sp>
                  <p:nvSpPr>
                    <p:cNvPr id="457" name="Freeform 25"/>
                    <p:cNvSpPr/>
                    <p:nvPr/>
                  </p:nvSpPr>
                  <p:spPr>
                    <a:xfrm rot="463200">
                      <a:off x="6419160" y="2210400"/>
                      <a:ext cx="210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Freeform 26"/>
                    <p:cNvSpPr/>
                    <p:nvPr/>
                  </p:nvSpPr>
                  <p:spPr>
                    <a:xfrm rot="463200">
                      <a:off x="8474400" y="2439000"/>
                      <a:ext cx="1128600" cy="66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Group 27"/>
                  <p:cNvGrpSpPr/>
                  <p:nvPr/>
                </p:nvGrpSpPr>
                <p:grpSpPr>
                  <a:xfrm>
                    <a:off x="6450480" y="2000880"/>
                    <a:ext cx="2931480" cy="491400"/>
                    <a:chOff x="6450480" y="2000880"/>
                    <a:chExt cx="2931480" cy="491400"/>
                  </a:xfrm>
                </p:grpSpPr>
                <p:sp>
                  <p:nvSpPr>
                    <p:cNvPr id="460" name="Freeform 28"/>
                    <p:cNvSpPr/>
                    <p:nvPr/>
                  </p:nvSpPr>
                  <p:spPr>
                    <a:xfrm rot="21515400">
                      <a:off x="6453720" y="2040120"/>
                      <a:ext cx="190836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Freeform 29"/>
                    <p:cNvSpPr/>
                    <p:nvPr/>
                  </p:nvSpPr>
                  <p:spPr>
                    <a:xfrm rot="21515400">
                      <a:off x="8351280" y="201312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30"/>
                  <p:cNvGrpSpPr/>
                  <p:nvPr/>
                </p:nvGrpSpPr>
                <p:grpSpPr>
                  <a:xfrm>
                    <a:off x="6381000" y="1437120"/>
                    <a:ext cx="2606400" cy="867960"/>
                    <a:chOff x="6381000" y="1437120"/>
                    <a:chExt cx="2606400" cy="867960"/>
                  </a:xfrm>
                </p:grpSpPr>
                <p:sp>
                  <p:nvSpPr>
                    <p:cNvPr id="463" name="Freeform 31"/>
                    <p:cNvSpPr/>
                    <p:nvPr/>
                  </p:nvSpPr>
                  <p:spPr>
                    <a:xfrm rot="20797200">
                      <a:off x="6391800" y="18230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32"/>
                    <p:cNvSpPr/>
                    <p:nvPr/>
                  </p:nvSpPr>
                  <p:spPr>
                    <a:xfrm rot="20797200">
                      <a:off x="8046360" y="1535040"/>
                      <a:ext cx="90000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33"/>
                  <p:cNvGrpSpPr/>
                  <p:nvPr/>
                </p:nvGrpSpPr>
                <p:grpSpPr>
                  <a:xfrm>
                    <a:off x="2917440" y="2726280"/>
                    <a:ext cx="2818440" cy="3022200"/>
                    <a:chOff x="2917440" y="2726280"/>
                    <a:chExt cx="2818440" cy="3022200"/>
                  </a:xfrm>
                </p:grpSpPr>
                <p:sp>
                  <p:nvSpPr>
                    <p:cNvPr id="466" name="Freeform 34"/>
                    <p:cNvSpPr/>
                    <p:nvPr/>
                  </p:nvSpPr>
                  <p:spPr>
                    <a:xfrm flipH="1" rot="18888600">
                      <a:off x="3588120" y="3494880"/>
                      <a:ext cx="2343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35"/>
                    <p:cNvSpPr/>
                    <p:nvPr/>
                  </p:nvSpPr>
                  <p:spPr>
                    <a:xfrm flipH="1" rot="18888600">
                      <a:off x="2967480" y="473472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36"/>
                  <p:cNvGrpSpPr/>
                  <p:nvPr/>
                </p:nvGrpSpPr>
                <p:grpSpPr>
                  <a:xfrm>
                    <a:off x="2297880" y="2607840"/>
                    <a:ext cx="3352320" cy="2788920"/>
                    <a:chOff x="2297880" y="2607840"/>
                    <a:chExt cx="3352320" cy="2788920"/>
                  </a:xfrm>
                </p:grpSpPr>
                <p:sp>
                  <p:nvSpPr>
                    <p:cNvPr id="469" name="Freeform 37"/>
                    <p:cNvSpPr/>
                    <p:nvPr/>
                  </p:nvSpPr>
                  <p:spPr>
                    <a:xfrm flipH="1" rot="19496400">
                      <a:off x="3272040" y="3273120"/>
                      <a:ext cx="246600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38"/>
                    <p:cNvSpPr/>
                    <p:nvPr/>
                  </p:nvSpPr>
                  <p:spPr>
                    <a:xfrm flipH="1" rot="19496400">
                      <a:off x="2390040" y="4342320"/>
                      <a:ext cx="1324080" cy="74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39"/>
                  <p:cNvGrpSpPr/>
                  <p:nvPr/>
                </p:nvGrpSpPr>
                <p:grpSpPr>
                  <a:xfrm>
                    <a:off x="2248920" y="2516400"/>
                    <a:ext cx="3414600" cy="2197080"/>
                    <a:chOff x="2248920" y="2516400"/>
                    <a:chExt cx="3414600" cy="2197080"/>
                  </a:xfrm>
                </p:grpSpPr>
                <p:sp>
                  <p:nvSpPr>
                    <p:cNvPr id="472" name="Freeform 40"/>
                    <p:cNvSpPr/>
                    <p:nvPr/>
                  </p:nvSpPr>
                  <p:spPr>
                    <a:xfrm flipH="1" rot="20017200">
                      <a:off x="3333960" y="3018960"/>
                      <a:ext cx="236052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41"/>
                    <p:cNvSpPr/>
                    <p:nvPr/>
                  </p:nvSpPr>
                  <p:spPr>
                    <a:xfrm flipH="1" rot="20017200">
                      <a:off x="2326680" y="381852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42"/>
                  <p:cNvGrpSpPr/>
                  <p:nvPr/>
                </p:nvGrpSpPr>
                <p:grpSpPr>
                  <a:xfrm>
                    <a:off x="2216160" y="2411640"/>
                    <a:ext cx="3455640" cy="1772640"/>
                    <a:chOff x="2216160" y="2411640"/>
                    <a:chExt cx="3455640" cy="1772640"/>
                  </a:xfrm>
                </p:grpSpPr>
                <p:sp>
                  <p:nvSpPr>
                    <p:cNvPr id="475" name="Freeform 43"/>
                    <p:cNvSpPr/>
                    <p:nvPr/>
                  </p:nvSpPr>
                  <p:spPr>
                    <a:xfrm flipH="1" rot="20520000">
                      <a:off x="3376440" y="2752560"/>
                      <a:ext cx="2280240" cy="45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44"/>
                    <p:cNvSpPr/>
                    <p:nvPr/>
                  </p:nvSpPr>
                  <p:spPr>
                    <a:xfrm flipH="1" rot="20520000">
                      <a:off x="2296080" y="3297240"/>
                      <a:ext cx="1224360" cy="71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45"/>
                  <p:cNvGrpSpPr/>
                  <p:nvPr/>
                </p:nvGrpSpPr>
                <p:grpSpPr>
                  <a:xfrm>
                    <a:off x="2387880" y="2311560"/>
                    <a:ext cx="3242160" cy="1104840"/>
                    <a:chOff x="2387880" y="2311560"/>
                    <a:chExt cx="3242160" cy="1104840"/>
                  </a:xfrm>
                </p:grpSpPr>
                <p:sp>
                  <p:nvSpPr>
                    <p:cNvPr id="478" name="Freeform 46"/>
                    <p:cNvSpPr/>
                    <p:nvPr/>
                  </p:nvSpPr>
                  <p:spPr>
                    <a:xfrm flipH="1" rot="21136800">
                      <a:off x="3510360" y="2450520"/>
                      <a:ext cx="210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47"/>
                    <p:cNvSpPr/>
                    <p:nvPr/>
                  </p:nvSpPr>
                  <p:spPr>
                    <a:xfrm flipH="1" rot="21136800">
                      <a:off x="2427120" y="2679120"/>
                      <a:ext cx="1128240" cy="66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48"/>
                  <p:cNvGrpSpPr/>
                  <p:nvPr/>
                </p:nvGrpSpPr>
                <p:grpSpPr>
                  <a:xfrm>
                    <a:off x="2649240" y="2241360"/>
                    <a:ext cx="2931480" cy="491400"/>
                    <a:chOff x="2649240" y="2241360"/>
                    <a:chExt cx="2931480" cy="491400"/>
                  </a:xfrm>
                </p:grpSpPr>
                <p:sp>
                  <p:nvSpPr>
                    <p:cNvPr id="481" name="Freeform 49"/>
                    <p:cNvSpPr/>
                    <p:nvPr/>
                  </p:nvSpPr>
                  <p:spPr>
                    <a:xfrm flipH="1" rot="84600">
                      <a:off x="3668760" y="2280960"/>
                      <a:ext cx="190872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50"/>
                    <p:cNvSpPr/>
                    <p:nvPr/>
                  </p:nvSpPr>
                  <p:spPr>
                    <a:xfrm flipH="1" rot="84600">
                      <a:off x="2654640" y="225360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51"/>
                  <p:cNvGrpSpPr/>
                  <p:nvPr/>
                </p:nvGrpSpPr>
                <p:grpSpPr>
                  <a:xfrm>
                    <a:off x="3043080" y="1677600"/>
                    <a:ext cx="2605680" cy="867960"/>
                    <a:chOff x="3043080" y="1677600"/>
                    <a:chExt cx="2605680" cy="867960"/>
                  </a:xfrm>
                </p:grpSpPr>
                <p:sp>
                  <p:nvSpPr>
                    <p:cNvPr id="484" name="Freeform 52"/>
                    <p:cNvSpPr/>
                    <p:nvPr/>
                  </p:nvSpPr>
                  <p:spPr>
                    <a:xfrm flipH="1" rot="802800">
                      <a:off x="3961080" y="206352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53"/>
                    <p:cNvSpPr/>
                    <p:nvPr/>
                  </p:nvSpPr>
                  <p:spPr>
                    <a:xfrm flipH="1" rot="802800">
                      <a:off x="3083760" y="1775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54"/>
                  <p:cNvGrpSpPr/>
                  <p:nvPr/>
                </p:nvGrpSpPr>
                <p:grpSpPr>
                  <a:xfrm>
                    <a:off x="3182400" y="1362960"/>
                    <a:ext cx="2563560" cy="1194480"/>
                    <a:chOff x="3182400" y="1362960"/>
                    <a:chExt cx="2563560" cy="1194480"/>
                  </a:xfrm>
                </p:grpSpPr>
                <p:sp>
                  <p:nvSpPr>
                    <p:cNvPr id="487" name="Freeform 55"/>
                    <p:cNvSpPr/>
                    <p:nvPr/>
                  </p:nvSpPr>
                  <p:spPr>
                    <a:xfrm flipH="1" rot="1278000">
                      <a:off x="4073400" y="1970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56"/>
                    <p:cNvSpPr/>
                    <p:nvPr/>
                  </p:nvSpPr>
                  <p:spPr>
                    <a:xfrm flipH="1" rot="1278000">
                      <a:off x="3234600" y="1510560"/>
                      <a:ext cx="90000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57"/>
                  <p:cNvGrpSpPr/>
                  <p:nvPr/>
                </p:nvGrpSpPr>
                <p:grpSpPr>
                  <a:xfrm>
                    <a:off x="3483360" y="915480"/>
                    <a:ext cx="2393640" cy="1662840"/>
                    <a:chOff x="3483360" y="915480"/>
                    <a:chExt cx="2393640" cy="1662840"/>
                  </a:xfrm>
                </p:grpSpPr>
                <p:sp>
                  <p:nvSpPr>
                    <p:cNvPr id="490" name="Freeform 58"/>
                    <p:cNvSpPr/>
                    <p:nvPr/>
                  </p:nvSpPr>
                  <p:spPr>
                    <a:xfrm flipH="1" rot="2028600">
                      <a:off x="4260960" y="1844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59"/>
                    <p:cNvSpPr/>
                    <p:nvPr/>
                  </p:nvSpPr>
                  <p:spPr>
                    <a:xfrm flipH="1" rot="2028600">
                      <a:off x="3534480" y="1126800"/>
                      <a:ext cx="899640" cy="45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60"/>
                  <p:cNvGrpSpPr/>
                  <p:nvPr/>
                </p:nvGrpSpPr>
                <p:grpSpPr>
                  <a:xfrm>
                    <a:off x="3789720" y="480240"/>
                    <a:ext cx="2190960" cy="2019240"/>
                    <a:chOff x="3789720" y="480240"/>
                    <a:chExt cx="2190960" cy="2019240"/>
                  </a:xfrm>
                </p:grpSpPr>
                <p:sp>
                  <p:nvSpPr>
                    <p:cNvPr id="493" name="Freeform 61"/>
                    <p:cNvSpPr/>
                    <p:nvPr/>
                  </p:nvSpPr>
                  <p:spPr>
                    <a:xfrm flipH="1" rot="2664600">
                      <a:off x="4420080" y="1654200"/>
                      <a:ext cx="17006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62"/>
                    <p:cNvSpPr/>
                    <p:nvPr/>
                  </p:nvSpPr>
                  <p:spPr>
                    <a:xfrm flipH="1" rot="2664600">
                      <a:off x="3819600" y="734040"/>
                      <a:ext cx="91332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Group 63"/>
                  <p:cNvGrpSpPr/>
                  <p:nvPr/>
                </p:nvGrpSpPr>
                <p:grpSpPr>
                  <a:xfrm>
                    <a:off x="4439520" y="369000"/>
                    <a:ext cx="1610280" cy="2079360"/>
                    <a:chOff x="4439520" y="369000"/>
                    <a:chExt cx="1610280" cy="2079360"/>
                  </a:xfrm>
                </p:grpSpPr>
                <p:sp>
                  <p:nvSpPr>
                    <p:cNvPr id="496" name="Freeform 64"/>
                    <p:cNvSpPr/>
                    <p:nvPr/>
                  </p:nvSpPr>
                  <p:spPr>
                    <a:xfrm flipH="1" rot="3474000">
                      <a:off x="4780800" y="1591200"/>
                      <a:ext cx="14954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65"/>
                    <p:cNvSpPr/>
                    <p:nvPr/>
                  </p:nvSpPr>
                  <p:spPr>
                    <a:xfrm flipH="1" rot="3474000">
                      <a:off x="4445640" y="601560"/>
                      <a:ext cx="80316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Group 66"/>
                  <p:cNvGrpSpPr/>
                  <p:nvPr/>
                </p:nvGrpSpPr>
                <p:grpSpPr>
                  <a:xfrm>
                    <a:off x="4903560" y="270000"/>
                    <a:ext cx="1237320" cy="2145960"/>
                    <a:chOff x="4903560" y="270000"/>
                    <a:chExt cx="1237320" cy="2145960"/>
                  </a:xfrm>
                </p:grpSpPr>
                <p:sp>
                  <p:nvSpPr>
                    <p:cNvPr id="499" name="Freeform 67"/>
                    <p:cNvSpPr/>
                    <p:nvPr/>
                  </p:nvSpPr>
                  <p:spPr>
                    <a:xfrm flipH="1" rot="4126800">
                      <a:off x="5022000" y="1544400"/>
                      <a:ext cx="144216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68"/>
                    <p:cNvSpPr/>
                    <p:nvPr/>
                  </p:nvSpPr>
                  <p:spPr>
                    <a:xfrm flipH="1" rot="4126800">
                      <a:off x="4869720" y="484560"/>
                      <a:ext cx="77472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69"/>
                  <p:cNvGrpSpPr/>
                  <p:nvPr/>
                </p:nvGrpSpPr>
                <p:grpSpPr>
                  <a:xfrm>
                    <a:off x="6241680" y="1049760"/>
                    <a:ext cx="2554200" cy="1225440"/>
                    <a:chOff x="6241680" y="1049760"/>
                    <a:chExt cx="2554200" cy="1225440"/>
                  </a:xfrm>
                </p:grpSpPr>
                <p:sp>
                  <p:nvSpPr>
                    <p:cNvPr id="502" name="Freeform 70"/>
                    <p:cNvSpPr/>
                    <p:nvPr/>
                  </p:nvSpPr>
                  <p:spPr>
                    <a:xfrm rot="20274000">
                      <a:off x="6234840" y="167868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71"/>
                    <p:cNvSpPr/>
                    <p:nvPr/>
                  </p:nvSpPr>
                  <p:spPr>
                    <a:xfrm rot="20274000">
                      <a:off x="7842960" y="120204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72"/>
                  <p:cNvGrpSpPr/>
                  <p:nvPr/>
                </p:nvGrpSpPr>
                <p:grpSpPr>
                  <a:xfrm>
                    <a:off x="6095880" y="689760"/>
                    <a:ext cx="2423880" cy="1599840"/>
                    <a:chOff x="6095880" y="689760"/>
                    <a:chExt cx="2423880" cy="1599840"/>
                  </a:xfrm>
                </p:grpSpPr>
                <p:sp>
                  <p:nvSpPr>
                    <p:cNvPr id="505" name="Freeform 73"/>
                    <p:cNvSpPr/>
                    <p:nvPr/>
                  </p:nvSpPr>
                  <p:spPr>
                    <a:xfrm rot="19678800">
                      <a:off x="6045480" y="157536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74"/>
                    <p:cNvSpPr/>
                    <p:nvPr/>
                  </p:nvSpPr>
                  <p:spPr>
                    <a:xfrm rot="19678800">
                      <a:off x="7566840" y="893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7" name="Freeform 75"/>
                  <p:cNvSpPr/>
                  <p:nvPr/>
                </p:nvSpPr>
                <p:spPr>
                  <a:xfrm flipH="1" rot="4578600">
                    <a:off x="5254200" y="1616040"/>
                    <a:ext cx="139572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Freeform 76"/>
                  <p:cNvSpPr/>
                  <p:nvPr/>
                </p:nvSpPr>
                <p:spPr>
                  <a:xfrm flipH="1" rot="4578600">
                    <a:off x="5285520" y="593280"/>
                    <a:ext cx="75024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9" name="Group 77"/>
                  <p:cNvGrpSpPr/>
                  <p:nvPr/>
                </p:nvGrpSpPr>
                <p:grpSpPr>
                  <a:xfrm>
                    <a:off x="5904360" y="297000"/>
                    <a:ext cx="1318680" cy="2095560"/>
                    <a:chOff x="5904360" y="297000"/>
                    <a:chExt cx="1318680" cy="2095560"/>
                  </a:xfrm>
                </p:grpSpPr>
                <p:sp>
                  <p:nvSpPr>
                    <p:cNvPr id="510" name="Freeform 78"/>
                    <p:cNvSpPr/>
                    <p:nvPr/>
                  </p:nvSpPr>
                  <p:spPr>
                    <a:xfrm rot="17742000">
                      <a:off x="5608080" y="1562760"/>
                      <a:ext cx="14436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Freeform 79"/>
                    <p:cNvSpPr/>
                    <p:nvPr/>
                  </p:nvSpPr>
                  <p:spPr>
                    <a:xfrm rot="17742000">
                      <a:off x="6490800" y="534600"/>
                      <a:ext cx="774360" cy="39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Group 80"/>
                  <p:cNvGrpSpPr/>
                  <p:nvPr/>
                </p:nvGrpSpPr>
                <p:grpSpPr>
                  <a:xfrm>
                    <a:off x="5895360" y="428400"/>
                    <a:ext cx="2085120" cy="1980360"/>
                    <a:chOff x="5895360" y="428400"/>
                    <a:chExt cx="2085120" cy="1980360"/>
                  </a:xfrm>
                </p:grpSpPr>
                <p:sp>
                  <p:nvSpPr>
                    <p:cNvPr id="513" name="Freeform 81"/>
                    <p:cNvSpPr/>
                    <p:nvPr/>
                  </p:nvSpPr>
                  <p:spPr>
                    <a:xfrm rot="18822600">
                      <a:off x="5785200" y="1530720"/>
                      <a:ext cx="1569960" cy="36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Freeform 82"/>
                    <p:cNvSpPr/>
                    <p:nvPr/>
                  </p:nvSpPr>
                  <p:spPr>
                    <a:xfrm rot="18822600">
                      <a:off x="7060320" y="643680"/>
                      <a:ext cx="84240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Group 83"/>
                  <p:cNvGrpSpPr/>
                  <p:nvPr/>
                </p:nvGrpSpPr>
                <p:grpSpPr>
                  <a:xfrm>
                    <a:off x="6017040" y="322200"/>
                    <a:ext cx="471600" cy="1979280"/>
                    <a:chOff x="6017040" y="322200"/>
                    <a:chExt cx="471600" cy="1979280"/>
                  </a:xfrm>
                </p:grpSpPr>
                <p:sp>
                  <p:nvSpPr>
                    <p:cNvPr id="516" name="Freeform 84"/>
                    <p:cNvSpPr/>
                    <p:nvPr/>
                  </p:nvSpPr>
                  <p:spPr>
                    <a:xfrm rot="16696200">
                      <a:off x="5519880" y="1593360"/>
                      <a:ext cx="129600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Freeform 85"/>
                    <p:cNvSpPr/>
                    <p:nvPr/>
                  </p:nvSpPr>
                  <p:spPr>
                    <a:xfrm rot="16696200">
                      <a:off x="5999760" y="587880"/>
                      <a:ext cx="695880" cy="18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Group 86"/>
                  <p:cNvGrpSpPr/>
                  <p:nvPr/>
                </p:nvGrpSpPr>
                <p:grpSpPr>
                  <a:xfrm>
                    <a:off x="3376080" y="2788560"/>
                    <a:ext cx="2420280" cy="3310560"/>
                    <a:chOff x="3376080" y="2788560"/>
                    <a:chExt cx="2420280" cy="3310560"/>
                  </a:xfrm>
                </p:grpSpPr>
                <p:sp>
                  <p:nvSpPr>
                    <p:cNvPr id="519" name="Freeform 87"/>
                    <p:cNvSpPr/>
                    <p:nvPr/>
                  </p:nvSpPr>
                  <p:spPr>
                    <a:xfrm flipH="1" rot="18336000">
                      <a:off x="3770280" y="3652560"/>
                      <a:ext cx="23428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Freeform 88"/>
                    <p:cNvSpPr/>
                    <p:nvPr/>
                  </p:nvSpPr>
                  <p:spPr>
                    <a:xfrm flipH="1" rot="18336000">
                      <a:off x="3383640" y="506124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89"/>
                  <p:cNvGrpSpPr/>
                  <p:nvPr/>
                </p:nvGrpSpPr>
                <p:grpSpPr>
                  <a:xfrm>
                    <a:off x="4179240" y="2921400"/>
                    <a:ext cx="1634400" cy="3306600"/>
                    <a:chOff x="4179240" y="2921400"/>
                    <a:chExt cx="1634400" cy="3306600"/>
                  </a:xfrm>
                </p:grpSpPr>
                <p:sp>
                  <p:nvSpPr>
                    <p:cNvPr id="522" name="Freeform 90"/>
                    <p:cNvSpPr/>
                    <p:nvPr/>
                  </p:nvSpPr>
                  <p:spPr>
                    <a:xfrm flipH="1" rot="17543400">
                      <a:off x="4120200" y="3792240"/>
                      <a:ext cx="21679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Freeform 91"/>
                    <p:cNvSpPr/>
                    <p:nvPr/>
                  </p:nvSpPr>
                  <p:spPr>
                    <a:xfrm flipH="1" rot="17543400">
                      <a:off x="4127040" y="5230080"/>
                      <a:ext cx="1163160" cy="66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Group 92"/>
                  <p:cNvGrpSpPr/>
                  <p:nvPr/>
                </p:nvGrpSpPr>
                <p:grpSpPr>
                  <a:xfrm>
                    <a:off x="4970160" y="2979000"/>
                    <a:ext cx="963360" cy="3226680"/>
                    <a:chOff x="4970160" y="2979000"/>
                    <a:chExt cx="963360" cy="3226680"/>
                  </a:xfrm>
                </p:grpSpPr>
                <p:sp>
                  <p:nvSpPr>
                    <p:cNvPr id="525" name="Freeform 93"/>
                    <p:cNvSpPr/>
                    <p:nvPr/>
                  </p:nvSpPr>
                  <p:spPr>
                    <a:xfrm flipH="1" rot="16870800">
                      <a:off x="4505040" y="3845160"/>
                      <a:ext cx="2079720" cy="38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Freeform 94"/>
                    <p:cNvSpPr/>
                    <p:nvPr/>
                  </p:nvSpPr>
                  <p:spPr>
                    <a:xfrm flipH="1" rot="16870800">
                      <a:off x="4814640" y="5300280"/>
                      <a:ext cx="1115640" cy="60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Group 95"/>
                  <p:cNvGrpSpPr/>
                  <p:nvPr/>
                </p:nvGrpSpPr>
                <p:grpSpPr>
                  <a:xfrm>
                    <a:off x="6260040" y="2736360"/>
                    <a:ext cx="2514240" cy="3255120"/>
                    <a:chOff x="6260040" y="2736360"/>
                    <a:chExt cx="2514240" cy="3255120"/>
                  </a:xfrm>
                </p:grpSpPr>
                <p:sp>
                  <p:nvSpPr>
                    <p:cNvPr id="528" name="Freeform 96"/>
                    <p:cNvSpPr/>
                    <p:nvPr/>
                  </p:nvSpPr>
                  <p:spPr>
                    <a:xfrm rot="3144000">
                      <a:off x="5970960" y="358164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Freeform 97"/>
                    <p:cNvSpPr/>
                    <p:nvPr/>
                  </p:nvSpPr>
                  <p:spPr>
                    <a:xfrm rot="3144000">
                      <a:off x="7498080" y="495720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Group 98"/>
                  <p:cNvGrpSpPr/>
                  <p:nvPr/>
                </p:nvGrpSpPr>
                <p:grpSpPr>
                  <a:xfrm>
                    <a:off x="6226200" y="2858400"/>
                    <a:ext cx="1938600" cy="3342600"/>
                    <a:chOff x="6226200" y="2858400"/>
                    <a:chExt cx="1938600" cy="3342600"/>
                  </a:xfrm>
                </p:grpSpPr>
                <p:sp>
                  <p:nvSpPr>
                    <p:cNvPr id="531" name="Freeform 99"/>
                    <p:cNvSpPr/>
                    <p:nvPr/>
                  </p:nvSpPr>
                  <p:spPr>
                    <a:xfrm rot="3745200">
                      <a:off x="5804280" y="3742920"/>
                      <a:ext cx="2242440" cy="40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100"/>
                    <p:cNvSpPr/>
                    <p:nvPr/>
                  </p:nvSpPr>
                  <p:spPr>
                    <a:xfrm rot="3745200">
                      <a:off x="7002360" y="5201640"/>
                      <a:ext cx="1202760" cy="63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Group 101"/>
                  <p:cNvGrpSpPr/>
                  <p:nvPr/>
                </p:nvGrpSpPr>
                <p:grpSpPr>
                  <a:xfrm>
                    <a:off x="6147000" y="2987280"/>
                    <a:ext cx="1351080" cy="3292560"/>
                    <a:chOff x="6147000" y="2987280"/>
                    <a:chExt cx="1351080" cy="3292560"/>
                  </a:xfrm>
                </p:grpSpPr>
                <p:sp>
                  <p:nvSpPr>
                    <p:cNvPr id="534" name="Freeform 102"/>
                    <p:cNvSpPr/>
                    <p:nvPr/>
                  </p:nvSpPr>
                  <p:spPr>
                    <a:xfrm rot="4286400">
                      <a:off x="5563800" y="3904560"/>
                      <a:ext cx="21758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Freeform 103"/>
                    <p:cNvSpPr/>
                    <p:nvPr/>
                  </p:nvSpPr>
                  <p:spPr>
                    <a:xfrm rot="4286400">
                      <a:off x="6479640" y="5380560"/>
                      <a:ext cx="1167480" cy="52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Group 104"/>
                  <p:cNvGrpSpPr/>
                  <p:nvPr/>
                </p:nvGrpSpPr>
                <p:grpSpPr>
                  <a:xfrm>
                    <a:off x="6086880" y="3130560"/>
                    <a:ext cx="768600" cy="3062160"/>
                    <a:chOff x="6086880" y="3130560"/>
                    <a:chExt cx="768600" cy="3062160"/>
                  </a:xfrm>
                </p:grpSpPr>
                <p:sp>
                  <p:nvSpPr>
                    <p:cNvPr id="537" name="Freeform 105"/>
                    <p:cNvSpPr/>
                    <p:nvPr/>
                  </p:nvSpPr>
                  <p:spPr>
                    <a:xfrm rot="4898400">
                      <a:off x="5397480" y="3976560"/>
                      <a:ext cx="19994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Freeform 106"/>
                    <p:cNvSpPr/>
                    <p:nvPr/>
                  </p:nvSpPr>
                  <p:spPr>
                    <a:xfrm rot="4898400">
                      <a:off x="5980680" y="5361120"/>
                      <a:ext cx="1073880" cy="52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Group 107"/>
                  <p:cNvGrpSpPr/>
                  <p:nvPr/>
                </p:nvGrpSpPr>
                <p:grpSpPr>
                  <a:xfrm>
                    <a:off x="5468760" y="3182400"/>
                    <a:ext cx="731520" cy="2995200"/>
                    <a:chOff x="5468760" y="3182400"/>
                    <a:chExt cx="731520" cy="2995200"/>
                  </a:xfrm>
                </p:grpSpPr>
                <p:sp>
                  <p:nvSpPr>
                    <p:cNvPr id="540" name="Freeform 108"/>
                    <p:cNvSpPr/>
                    <p:nvPr/>
                  </p:nvSpPr>
                  <p:spPr>
                    <a:xfrm rot="5755200">
                      <a:off x="4995720" y="4039200"/>
                      <a:ext cx="195336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Freeform 109"/>
                    <p:cNvSpPr/>
                    <p:nvPr/>
                  </p:nvSpPr>
                  <p:spPr>
                    <a:xfrm rot="5755200">
                      <a:off x="5197680" y="5435280"/>
                      <a:ext cx="1047960" cy="40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2" name="Group 110"/>
              <p:cNvGrpSpPr/>
              <p:nvPr/>
            </p:nvGrpSpPr>
            <p:grpSpPr>
              <a:xfrm>
                <a:off x="2397240" y="752040"/>
                <a:ext cx="7422120" cy="4984200"/>
                <a:chOff x="2397240" y="752040"/>
                <a:chExt cx="7422120" cy="4984200"/>
              </a:xfrm>
            </p:grpSpPr>
            <p:grpSp>
              <p:nvGrpSpPr>
                <p:cNvPr id="543" name="Group 111"/>
                <p:cNvGrpSpPr/>
                <p:nvPr/>
              </p:nvGrpSpPr>
              <p:grpSpPr>
                <a:xfrm>
                  <a:off x="2397240" y="752040"/>
                  <a:ext cx="7422120" cy="4984200"/>
                  <a:chOff x="2397240" y="752040"/>
                  <a:chExt cx="7422120" cy="4984200"/>
                </a:xfrm>
              </p:grpSpPr>
              <p:sp>
                <p:nvSpPr>
                  <p:cNvPr id="544" name="Arc 112"/>
                  <p:cNvSpPr/>
                  <p:nvPr/>
                </p:nvSpPr>
                <p:spPr>
                  <a:xfrm flipV="1">
                    <a:off x="6329520" y="946080"/>
                    <a:ext cx="3489840" cy="2780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Arc 113"/>
                  <p:cNvSpPr/>
                  <p:nvPr/>
                </p:nvSpPr>
                <p:spPr>
                  <a:xfrm flipH="1">
                    <a:off x="2823840" y="2502720"/>
                    <a:ext cx="2740680" cy="3233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Arc 114"/>
                  <p:cNvSpPr/>
                  <p:nvPr/>
                </p:nvSpPr>
                <p:spPr>
                  <a:xfrm>
                    <a:off x="6415200" y="1931760"/>
                    <a:ext cx="1938600" cy="3233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Arc 115"/>
                  <p:cNvSpPr/>
                  <p:nvPr/>
                </p:nvSpPr>
                <p:spPr>
                  <a:xfrm flipH="1">
                    <a:off x="2396880" y="1431360"/>
                    <a:ext cx="3453480" cy="3233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Arc 116"/>
                  <p:cNvSpPr/>
                  <p:nvPr/>
                </p:nvSpPr>
                <p:spPr>
                  <a:xfrm flipH="1">
                    <a:off x="3371040" y="752040"/>
                    <a:ext cx="2514960" cy="3131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Arc 117"/>
                  <p:cNvSpPr/>
                  <p:nvPr/>
                </p:nvSpPr>
                <p:spPr>
                  <a:xfrm>
                    <a:off x="6053400" y="2067480"/>
                    <a:ext cx="1038600" cy="3131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118"/>
                  <p:cNvSpPr/>
                  <p:nvPr/>
                </p:nvSpPr>
                <p:spPr>
                  <a:xfrm flipH="1">
                    <a:off x="4744440" y="921600"/>
                    <a:ext cx="568080" cy="20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" name="Freeform 119"/>
                <p:cNvSpPr/>
                <p:nvPr/>
              </p:nvSpPr>
              <p:spPr>
                <a:xfrm rot="20253000">
                  <a:off x="6756480" y="2404080"/>
                  <a:ext cx="600840" cy="113760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2" name="Group 120"/>
            <p:cNvGrpSpPr/>
            <p:nvPr/>
          </p:nvGrpSpPr>
          <p:grpSpPr>
            <a:xfrm>
              <a:off x="2582280" y="785160"/>
              <a:ext cx="7067520" cy="5189760"/>
              <a:chOff x="2582280" y="785160"/>
              <a:chExt cx="7067520" cy="5189760"/>
            </a:xfrm>
          </p:grpSpPr>
          <p:sp>
            <p:nvSpPr>
              <p:cNvPr id="553" name="Freeform 121"/>
              <p:cNvSpPr/>
              <p:nvPr/>
            </p:nvSpPr>
            <p:spPr>
              <a:xfrm flipH="1">
                <a:off x="4926240" y="356508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Arc 122"/>
              <p:cNvSpPr/>
              <p:nvPr/>
            </p:nvSpPr>
            <p:spPr>
              <a:xfrm flipH="1">
                <a:off x="3729600" y="2842920"/>
                <a:ext cx="2885040" cy="3132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Arc 123"/>
              <p:cNvSpPr/>
              <p:nvPr/>
            </p:nvSpPr>
            <p:spPr>
              <a:xfrm flipH="1">
                <a:off x="4017960" y="2338560"/>
                <a:ext cx="1691280" cy="323388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Arc 124"/>
              <p:cNvSpPr/>
              <p:nvPr/>
            </p:nvSpPr>
            <p:spPr>
              <a:xfrm flipH="1">
                <a:off x="2582280" y="1914840"/>
                <a:ext cx="3230640" cy="32335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Arc 125"/>
              <p:cNvSpPr/>
              <p:nvPr/>
            </p:nvSpPr>
            <p:spPr>
              <a:xfrm>
                <a:off x="6158160" y="2370240"/>
                <a:ext cx="517680" cy="32338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Arc 126"/>
              <p:cNvSpPr/>
              <p:nvPr/>
            </p:nvSpPr>
            <p:spPr>
              <a:xfrm>
                <a:off x="6294240" y="2355120"/>
                <a:ext cx="1364760" cy="32338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27"/>
              <p:cNvSpPr/>
              <p:nvPr/>
            </p:nvSpPr>
            <p:spPr>
              <a:xfrm>
                <a:off x="6784920" y="390924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28"/>
              <p:cNvSpPr/>
              <p:nvPr/>
            </p:nvSpPr>
            <p:spPr>
              <a:xfrm flipV="1" rot="19660800">
                <a:off x="5758560" y="3249720"/>
                <a:ext cx="600480" cy="113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29"/>
              <p:cNvSpPr/>
              <p:nvPr/>
            </p:nvSpPr>
            <p:spPr>
              <a:xfrm flipH="1">
                <a:off x="2961360" y="3731040"/>
                <a:ext cx="14752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30"/>
              <p:cNvSpPr/>
              <p:nvPr/>
            </p:nvSpPr>
            <p:spPr>
              <a:xfrm flipH="1">
                <a:off x="3656520" y="1540800"/>
                <a:ext cx="9460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31"/>
              <p:cNvSpPr/>
              <p:nvPr/>
            </p:nvSpPr>
            <p:spPr>
              <a:xfrm>
                <a:off x="8280720" y="3426480"/>
                <a:ext cx="1369080" cy="217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32"/>
              <p:cNvSpPr/>
              <p:nvPr/>
            </p:nvSpPr>
            <p:spPr>
              <a:xfrm>
                <a:off x="7569720" y="2325240"/>
                <a:ext cx="2063880" cy="145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33"/>
              <p:cNvSpPr/>
              <p:nvPr/>
            </p:nvSpPr>
            <p:spPr>
              <a:xfrm>
                <a:off x="7645680" y="785160"/>
                <a:ext cx="901080" cy="194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34"/>
              <p:cNvSpPr/>
              <p:nvPr/>
            </p:nvSpPr>
            <p:spPr>
              <a:xfrm flipH="1" rot="1347000">
                <a:off x="4610520" y="2374200"/>
                <a:ext cx="600840" cy="1137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spcBef>
                <a:spcPts val="876"/>
              </a:spcBef>
              <a:buClr>
                <a:srgbClr val="fe1f08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−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5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6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9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10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11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7923446-8135-4796-B697-94F5A6FD27ED}" type="slidenum"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2216160" y="270000"/>
            <a:ext cx="7603200" cy="6009840"/>
            <a:chOff x="2216160" y="270000"/>
            <a:chExt cx="7603200" cy="6009840"/>
          </a:xfrm>
        </p:grpSpPr>
        <p:grpSp>
          <p:nvGrpSpPr>
            <p:cNvPr id="609" name="Group 3"/>
            <p:cNvGrpSpPr/>
            <p:nvPr/>
          </p:nvGrpSpPr>
          <p:grpSpPr>
            <a:xfrm>
              <a:off x="3839040" y="1050840"/>
              <a:ext cx="1042920" cy="781920"/>
              <a:chOff x="3839040" y="1050840"/>
              <a:chExt cx="1042920" cy="781920"/>
            </a:xfrm>
          </p:grpSpPr>
          <p:sp>
            <p:nvSpPr>
              <p:cNvPr id="610" name="Oval 4"/>
              <p:cNvSpPr/>
              <p:nvPr/>
            </p:nvSpPr>
            <p:spPr>
              <a:xfrm>
                <a:off x="3839040" y="1050840"/>
                <a:ext cx="1042920" cy="781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Oval 5"/>
              <p:cNvSpPr/>
              <p:nvPr/>
            </p:nvSpPr>
            <p:spPr>
              <a:xfrm>
                <a:off x="4213440" y="1392840"/>
                <a:ext cx="250920" cy="1465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6"/>
            <p:cNvGrpSpPr/>
            <p:nvPr/>
          </p:nvGrpSpPr>
          <p:grpSpPr>
            <a:xfrm>
              <a:off x="2216160" y="270000"/>
              <a:ext cx="7603200" cy="6009840"/>
              <a:chOff x="2216160" y="270000"/>
              <a:chExt cx="7603200" cy="6009840"/>
            </a:xfrm>
          </p:grpSpPr>
          <p:grpSp>
            <p:nvGrpSpPr>
              <p:cNvPr id="613" name="Group 7"/>
              <p:cNvGrpSpPr/>
              <p:nvPr/>
            </p:nvGrpSpPr>
            <p:grpSpPr>
              <a:xfrm>
                <a:off x="2216160" y="270000"/>
                <a:ext cx="7597800" cy="6009840"/>
                <a:chOff x="2216160" y="270000"/>
                <a:chExt cx="7597800" cy="6009840"/>
              </a:xfrm>
            </p:grpSpPr>
            <p:grpSp>
              <p:nvGrpSpPr>
                <p:cNvPr id="614" name="Group 8"/>
                <p:cNvGrpSpPr/>
                <p:nvPr/>
              </p:nvGrpSpPr>
              <p:grpSpPr>
                <a:xfrm>
                  <a:off x="4117680" y="1395000"/>
                  <a:ext cx="3968640" cy="2923560"/>
                  <a:chOff x="4117680" y="1395000"/>
                  <a:chExt cx="3968640" cy="2923560"/>
                </a:xfrm>
              </p:grpSpPr>
              <p:sp>
                <p:nvSpPr>
                  <p:cNvPr id="615" name="Oval 9"/>
                  <p:cNvSpPr/>
                  <p:nvPr/>
                </p:nvSpPr>
                <p:spPr>
                  <a:xfrm>
                    <a:off x="4117680" y="1395000"/>
                    <a:ext cx="3968640" cy="292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Oval 10"/>
                  <p:cNvSpPr/>
                  <p:nvPr/>
                </p:nvSpPr>
                <p:spPr>
                  <a:xfrm>
                    <a:off x="5633640" y="2464560"/>
                    <a:ext cx="786960" cy="55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Group 11"/>
                <p:cNvGrpSpPr/>
                <p:nvPr/>
              </p:nvGrpSpPr>
              <p:grpSpPr>
                <a:xfrm>
                  <a:off x="2216160" y="270000"/>
                  <a:ext cx="7597800" cy="6009840"/>
                  <a:chOff x="2216160" y="270000"/>
                  <a:chExt cx="7597800" cy="6009840"/>
                </a:xfrm>
              </p:grpSpPr>
              <p:grpSp>
                <p:nvGrpSpPr>
                  <p:cNvPr id="618" name="Group 12"/>
                  <p:cNvGrpSpPr/>
                  <p:nvPr/>
                </p:nvGrpSpPr>
                <p:grpSpPr>
                  <a:xfrm>
                    <a:off x="6352920" y="2558880"/>
                    <a:ext cx="2820240" cy="3023640"/>
                    <a:chOff x="6352920" y="2558880"/>
                    <a:chExt cx="2820240" cy="3023640"/>
                  </a:xfrm>
                </p:grpSpPr>
                <p:sp>
                  <p:nvSpPr>
                    <p:cNvPr id="619" name="Freeform 13"/>
                    <p:cNvSpPr/>
                    <p:nvPr/>
                  </p:nvSpPr>
                  <p:spPr>
                    <a:xfrm rot="2711400">
                      <a:off x="6157440" y="332748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Freeform 14"/>
                    <p:cNvSpPr/>
                    <p:nvPr/>
                  </p:nvSpPr>
                  <p:spPr>
                    <a:xfrm rot="2711400">
                      <a:off x="7865280" y="456876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15"/>
                  <p:cNvGrpSpPr/>
                  <p:nvPr/>
                </p:nvGrpSpPr>
                <p:grpSpPr>
                  <a:xfrm>
                    <a:off x="6379920" y="2367360"/>
                    <a:ext cx="3352680" cy="2788920"/>
                    <a:chOff x="6379920" y="2367360"/>
                    <a:chExt cx="3352680" cy="2788920"/>
                  </a:xfrm>
                </p:grpSpPr>
                <p:sp>
                  <p:nvSpPr>
                    <p:cNvPr id="622" name="Freeform 16"/>
                    <p:cNvSpPr/>
                    <p:nvPr/>
                  </p:nvSpPr>
                  <p:spPr>
                    <a:xfrm rot="2103600">
                      <a:off x="6291360" y="3032640"/>
                      <a:ext cx="246636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Freeform 17"/>
                    <p:cNvSpPr/>
                    <p:nvPr/>
                  </p:nvSpPr>
                  <p:spPr>
                    <a:xfrm rot="2103600">
                      <a:off x="8315640" y="4102200"/>
                      <a:ext cx="1324080" cy="74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Group 18"/>
                  <p:cNvGrpSpPr/>
                  <p:nvPr/>
                </p:nvGrpSpPr>
                <p:grpSpPr>
                  <a:xfrm>
                    <a:off x="6367320" y="2275920"/>
                    <a:ext cx="3414240" cy="2197080"/>
                    <a:chOff x="6367320" y="2275920"/>
                    <a:chExt cx="3414240" cy="2197080"/>
                  </a:xfrm>
                </p:grpSpPr>
                <p:sp>
                  <p:nvSpPr>
                    <p:cNvPr id="625" name="Freeform 19"/>
                    <p:cNvSpPr/>
                    <p:nvPr/>
                  </p:nvSpPr>
                  <p:spPr>
                    <a:xfrm rot="1582800">
                      <a:off x="6336000" y="2778480"/>
                      <a:ext cx="236016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20"/>
                    <p:cNvSpPr/>
                    <p:nvPr/>
                  </p:nvSpPr>
                  <p:spPr>
                    <a:xfrm rot="1582800">
                      <a:off x="8436600" y="357804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21"/>
                  <p:cNvGrpSpPr/>
                  <p:nvPr/>
                </p:nvGrpSpPr>
                <p:grpSpPr>
                  <a:xfrm>
                    <a:off x="6358320" y="2171520"/>
                    <a:ext cx="3455640" cy="1772280"/>
                    <a:chOff x="6358320" y="2171520"/>
                    <a:chExt cx="3455640" cy="1772280"/>
                  </a:xfrm>
                </p:grpSpPr>
                <p:sp>
                  <p:nvSpPr>
                    <p:cNvPr id="628" name="Freeform 22"/>
                    <p:cNvSpPr/>
                    <p:nvPr/>
                  </p:nvSpPr>
                  <p:spPr>
                    <a:xfrm rot="1080000">
                      <a:off x="6372720" y="2512440"/>
                      <a:ext cx="2279880" cy="45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23"/>
                    <p:cNvSpPr/>
                    <p:nvPr/>
                  </p:nvSpPr>
                  <p:spPr>
                    <a:xfrm rot="1080000">
                      <a:off x="8508960" y="3057480"/>
                      <a:ext cx="1224720" cy="71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Group 24"/>
                  <p:cNvGrpSpPr/>
                  <p:nvPr/>
                </p:nvGrpSpPr>
                <p:grpSpPr>
                  <a:xfrm>
                    <a:off x="6400440" y="2071440"/>
                    <a:ext cx="3242520" cy="1104480"/>
                    <a:chOff x="6400440" y="2071440"/>
                    <a:chExt cx="3242520" cy="1104480"/>
                  </a:xfrm>
                </p:grpSpPr>
                <p:sp>
                  <p:nvSpPr>
                    <p:cNvPr id="631" name="Freeform 25"/>
                    <p:cNvSpPr/>
                    <p:nvPr/>
                  </p:nvSpPr>
                  <p:spPr>
                    <a:xfrm rot="463200">
                      <a:off x="6419160" y="2210400"/>
                      <a:ext cx="210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Freeform 26"/>
                    <p:cNvSpPr/>
                    <p:nvPr/>
                  </p:nvSpPr>
                  <p:spPr>
                    <a:xfrm rot="463200">
                      <a:off x="8474400" y="2439000"/>
                      <a:ext cx="1128600" cy="66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Group 27"/>
                  <p:cNvGrpSpPr/>
                  <p:nvPr/>
                </p:nvGrpSpPr>
                <p:grpSpPr>
                  <a:xfrm>
                    <a:off x="6450480" y="2000880"/>
                    <a:ext cx="2931480" cy="491400"/>
                    <a:chOff x="6450480" y="2000880"/>
                    <a:chExt cx="2931480" cy="491400"/>
                  </a:xfrm>
                </p:grpSpPr>
                <p:sp>
                  <p:nvSpPr>
                    <p:cNvPr id="634" name="Freeform 28"/>
                    <p:cNvSpPr/>
                    <p:nvPr/>
                  </p:nvSpPr>
                  <p:spPr>
                    <a:xfrm rot="21515400">
                      <a:off x="6453720" y="2040120"/>
                      <a:ext cx="190836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Freeform 29"/>
                    <p:cNvSpPr/>
                    <p:nvPr/>
                  </p:nvSpPr>
                  <p:spPr>
                    <a:xfrm rot="21515400">
                      <a:off x="8351280" y="201312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Group 30"/>
                  <p:cNvGrpSpPr/>
                  <p:nvPr/>
                </p:nvGrpSpPr>
                <p:grpSpPr>
                  <a:xfrm>
                    <a:off x="6381000" y="1437120"/>
                    <a:ext cx="2606400" cy="867960"/>
                    <a:chOff x="6381000" y="1437120"/>
                    <a:chExt cx="2606400" cy="867960"/>
                  </a:xfrm>
                </p:grpSpPr>
                <p:sp>
                  <p:nvSpPr>
                    <p:cNvPr id="637" name="Freeform 31"/>
                    <p:cNvSpPr/>
                    <p:nvPr/>
                  </p:nvSpPr>
                  <p:spPr>
                    <a:xfrm rot="20797200">
                      <a:off x="6391800" y="18230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Freeform 32"/>
                    <p:cNvSpPr/>
                    <p:nvPr/>
                  </p:nvSpPr>
                  <p:spPr>
                    <a:xfrm rot="20797200">
                      <a:off x="8046360" y="1535040"/>
                      <a:ext cx="90000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33"/>
                  <p:cNvGrpSpPr/>
                  <p:nvPr/>
                </p:nvGrpSpPr>
                <p:grpSpPr>
                  <a:xfrm>
                    <a:off x="2917440" y="2726280"/>
                    <a:ext cx="2818440" cy="3022200"/>
                    <a:chOff x="2917440" y="2726280"/>
                    <a:chExt cx="2818440" cy="3022200"/>
                  </a:xfrm>
                </p:grpSpPr>
                <p:sp>
                  <p:nvSpPr>
                    <p:cNvPr id="640" name="Freeform 34"/>
                    <p:cNvSpPr/>
                    <p:nvPr/>
                  </p:nvSpPr>
                  <p:spPr>
                    <a:xfrm flipH="1" rot="18888600">
                      <a:off x="3588120" y="3494880"/>
                      <a:ext cx="2343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Freeform 35"/>
                    <p:cNvSpPr/>
                    <p:nvPr/>
                  </p:nvSpPr>
                  <p:spPr>
                    <a:xfrm flipH="1" rot="18888600">
                      <a:off x="2967480" y="473472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Group 36"/>
                  <p:cNvGrpSpPr/>
                  <p:nvPr/>
                </p:nvGrpSpPr>
                <p:grpSpPr>
                  <a:xfrm>
                    <a:off x="2297880" y="2607840"/>
                    <a:ext cx="3352320" cy="2788920"/>
                    <a:chOff x="2297880" y="2607840"/>
                    <a:chExt cx="3352320" cy="2788920"/>
                  </a:xfrm>
                </p:grpSpPr>
                <p:sp>
                  <p:nvSpPr>
                    <p:cNvPr id="643" name="Freeform 37"/>
                    <p:cNvSpPr/>
                    <p:nvPr/>
                  </p:nvSpPr>
                  <p:spPr>
                    <a:xfrm flipH="1" rot="19496400">
                      <a:off x="3272040" y="3273120"/>
                      <a:ext cx="2466000" cy="4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38"/>
                    <p:cNvSpPr/>
                    <p:nvPr/>
                  </p:nvSpPr>
                  <p:spPr>
                    <a:xfrm flipH="1" rot="19496400">
                      <a:off x="2390040" y="4342320"/>
                      <a:ext cx="1324080" cy="74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Group 39"/>
                  <p:cNvGrpSpPr/>
                  <p:nvPr/>
                </p:nvGrpSpPr>
                <p:grpSpPr>
                  <a:xfrm>
                    <a:off x="2248920" y="2516400"/>
                    <a:ext cx="3414600" cy="2197080"/>
                    <a:chOff x="2248920" y="2516400"/>
                    <a:chExt cx="3414600" cy="2197080"/>
                  </a:xfrm>
                </p:grpSpPr>
                <p:sp>
                  <p:nvSpPr>
                    <p:cNvPr id="646" name="Freeform 40"/>
                    <p:cNvSpPr/>
                    <p:nvPr/>
                  </p:nvSpPr>
                  <p:spPr>
                    <a:xfrm flipH="1" rot="20017200">
                      <a:off x="3333960" y="3018960"/>
                      <a:ext cx="236052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Freeform 41"/>
                    <p:cNvSpPr/>
                    <p:nvPr/>
                  </p:nvSpPr>
                  <p:spPr>
                    <a:xfrm flipH="1" rot="20017200">
                      <a:off x="2326680" y="3818520"/>
                      <a:ext cx="126720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Group 42"/>
                  <p:cNvGrpSpPr/>
                  <p:nvPr/>
                </p:nvGrpSpPr>
                <p:grpSpPr>
                  <a:xfrm>
                    <a:off x="2216160" y="2411640"/>
                    <a:ext cx="3455640" cy="1772640"/>
                    <a:chOff x="2216160" y="2411640"/>
                    <a:chExt cx="3455640" cy="1772640"/>
                  </a:xfrm>
                </p:grpSpPr>
                <p:sp>
                  <p:nvSpPr>
                    <p:cNvPr id="649" name="Freeform 43"/>
                    <p:cNvSpPr/>
                    <p:nvPr/>
                  </p:nvSpPr>
                  <p:spPr>
                    <a:xfrm flipH="1" rot="20520000">
                      <a:off x="3376440" y="2752560"/>
                      <a:ext cx="2280240" cy="45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Freeform 44"/>
                    <p:cNvSpPr/>
                    <p:nvPr/>
                  </p:nvSpPr>
                  <p:spPr>
                    <a:xfrm flipH="1" rot="20520000">
                      <a:off x="2296080" y="3297240"/>
                      <a:ext cx="1224360" cy="71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45"/>
                  <p:cNvGrpSpPr/>
                  <p:nvPr/>
                </p:nvGrpSpPr>
                <p:grpSpPr>
                  <a:xfrm>
                    <a:off x="2387880" y="2311560"/>
                    <a:ext cx="3242160" cy="1104840"/>
                    <a:chOff x="2387880" y="2311560"/>
                    <a:chExt cx="3242160" cy="1104840"/>
                  </a:xfrm>
                </p:grpSpPr>
                <p:sp>
                  <p:nvSpPr>
                    <p:cNvPr id="652" name="Freeform 46"/>
                    <p:cNvSpPr/>
                    <p:nvPr/>
                  </p:nvSpPr>
                  <p:spPr>
                    <a:xfrm flipH="1" rot="21136800">
                      <a:off x="3510360" y="2450520"/>
                      <a:ext cx="210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Freeform 47"/>
                    <p:cNvSpPr/>
                    <p:nvPr/>
                  </p:nvSpPr>
                  <p:spPr>
                    <a:xfrm flipH="1" rot="21136800">
                      <a:off x="2427120" y="2679120"/>
                      <a:ext cx="1128240" cy="66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Group 48"/>
                  <p:cNvGrpSpPr/>
                  <p:nvPr/>
                </p:nvGrpSpPr>
                <p:grpSpPr>
                  <a:xfrm>
                    <a:off x="2649240" y="2241360"/>
                    <a:ext cx="2931480" cy="491400"/>
                    <a:chOff x="2649240" y="2241360"/>
                    <a:chExt cx="2931480" cy="491400"/>
                  </a:xfrm>
                </p:grpSpPr>
                <p:sp>
                  <p:nvSpPr>
                    <p:cNvPr id="655" name="Freeform 49"/>
                    <p:cNvSpPr/>
                    <p:nvPr/>
                  </p:nvSpPr>
                  <p:spPr>
                    <a:xfrm flipH="1" rot="84600">
                      <a:off x="3668760" y="2280960"/>
                      <a:ext cx="190872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Freeform 50"/>
                    <p:cNvSpPr/>
                    <p:nvPr/>
                  </p:nvSpPr>
                  <p:spPr>
                    <a:xfrm flipH="1" rot="84600">
                      <a:off x="2654640" y="2253600"/>
                      <a:ext cx="1024920" cy="46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7" name="Group 51"/>
                  <p:cNvGrpSpPr/>
                  <p:nvPr/>
                </p:nvGrpSpPr>
                <p:grpSpPr>
                  <a:xfrm>
                    <a:off x="3043080" y="1677600"/>
                    <a:ext cx="2605680" cy="867960"/>
                    <a:chOff x="3043080" y="1677600"/>
                    <a:chExt cx="2605680" cy="867960"/>
                  </a:xfrm>
                </p:grpSpPr>
                <p:sp>
                  <p:nvSpPr>
                    <p:cNvPr id="658" name="Freeform 52"/>
                    <p:cNvSpPr/>
                    <p:nvPr/>
                  </p:nvSpPr>
                  <p:spPr>
                    <a:xfrm flipH="1" rot="802800">
                      <a:off x="3961080" y="206352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Freeform 53"/>
                    <p:cNvSpPr/>
                    <p:nvPr/>
                  </p:nvSpPr>
                  <p:spPr>
                    <a:xfrm flipH="1" rot="802800">
                      <a:off x="3083760" y="1775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0" name="Group 54"/>
                  <p:cNvGrpSpPr/>
                  <p:nvPr/>
                </p:nvGrpSpPr>
                <p:grpSpPr>
                  <a:xfrm>
                    <a:off x="3182400" y="1362960"/>
                    <a:ext cx="2563560" cy="1194480"/>
                    <a:chOff x="3182400" y="1362960"/>
                    <a:chExt cx="2563560" cy="1194480"/>
                  </a:xfrm>
                </p:grpSpPr>
                <p:sp>
                  <p:nvSpPr>
                    <p:cNvPr id="661" name="Freeform 55"/>
                    <p:cNvSpPr/>
                    <p:nvPr/>
                  </p:nvSpPr>
                  <p:spPr>
                    <a:xfrm flipH="1" rot="1278000">
                      <a:off x="4073400" y="1970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Freeform 56"/>
                    <p:cNvSpPr/>
                    <p:nvPr/>
                  </p:nvSpPr>
                  <p:spPr>
                    <a:xfrm flipH="1" rot="1278000">
                      <a:off x="3234600" y="1510560"/>
                      <a:ext cx="90000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3" name="Group 57"/>
                  <p:cNvGrpSpPr/>
                  <p:nvPr/>
                </p:nvGrpSpPr>
                <p:grpSpPr>
                  <a:xfrm>
                    <a:off x="3483360" y="915480"/>
                    <a:ext cx="2393640" cy="1662840"/>
                    <a:chOff x="3483360" y="915480"/>
                    <a:chExt cx="2393640" cy="1662840"/>
                  </a:xfrm>
                </p:grpSpPr>
                <p:sp>
                  <p:nvSpPr>
                    <p:cNvPr id="664" name="Freeform 58"/>
                    <p:cNvSpPr/>
                    <p:nvPr/>
                  </p:nvSpPr>
                  <p:spPr>
                    <a:xfrm flipH="1" rot="2028600">
                      <a:off x="4260960" y="1844640"/>
                      <a:ext cx="167616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Freeform 59"/>
                    <p:cNvSpPr/>
                    <p:nvPr/>
                  </p:nvSpPr>
                  <p:spPr>
                    <a:xfrm flipH="1" rot="2028600">
                      <a:off x="3534480" y="1126800"/>
                      <a:ext cx="899640" cy="45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6" name="Group 60"/>
                  <p:cNvGrpSpPr/>
                  <p:nvPr/>
                </p:nvGrpSpPr>
                <p:grpSpPr>
                  <a:xfrm>
                    <a:off x="3789720" y="480240"/>
                    <a:ext cx="2190960" cy="2019240"/>
                    <a:chOff x="3789720" y="480240"/>
                    <a:chExt cx="2190960" cy="2019240"/>
                  </a:xfrm>
                </p:grpSpPr>
                <p:sp>
                  <p:nvSpPr>
                    <p:cNvPr id="667" name="Freeform 61"/>
                    <p:cNvSpPr/>
                    <p:nvPr/>
                  </p:nvSpPr>
                  <p:spPr>
                    <a:xfrm flipH="1" rot="2664600">
                      <a:off x="4420080" y="1654200"/>
                      <a:ext cx="17006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Freeform 62"/>
                    <p:cNvSpPr/>
                    <p:nvPr/>
                  </p:nvSpPr>
                  <p:spPr>
                    <a:xfrm flipH="1" rot="2664600">
                      <a:off x="3819600" y="734040"/>
                      <a:ext cx="91332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9" name="Group 63"/>
                  <p:cNvGrpSpPr/>
                  <p:nvPr/>
                </p:nvGrpSpPr>
                <p:grpSpPr>
                  <a:xfrm>
                    <a:off x="4439520" y="369000"/>
                    <a:ext cx="1610280" cy="2079360"/>
                    <a:chOff x="4439520" y="369000"/>
                    <a:chExt cx="1610280" cy="2079360"/>
                  </a:xfrm>
                </p:grpSpPr>
                <p:sp>
                  <p:nvSpPr>
                    <p:cNvPr id="670" name="Freeform 64"/>
                    <p:cNvSpPr/>
                    <p:nvPr/>
                  </p:nvSpPr>
                  <p:spPr>
                    <a:xfrm flipH="1" rot="3474000">
                      <a:off x="4780800" y="1591200"/>
                      <a:ext cx="14954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Freeform 65"/>
                    <p:cNvSpPr/>
                    <p:nvPr/>
                  </p:nvSpPr>
                  <p:spPr>
                    <a:xfrm flipH="1" rot="3474000">
                      <a:off x="4445640" y="601560"/>
                      <a:ext cx="80316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66"/>
                  <p:cNvGrpSpPr/>
                  <p:nvPr/>
                </p:nvGrpSpPr>
                <p:grpSpPr>
                  <a:xfrm>
                    <a:off x="4903560" y="270000"/>
                    <a:ext cx="1237320" cy="2145960"/>
                    <a:chOff x="4903560" y="270000"/>
                    <a:chExt cx="1237320" cy="2145960"/>
                  </a:xfrm>
                </p:grpSpPr>
                <p:sp>
                  <p:nvSpPr>
                    <p:cNvPr id="673" name="Freeform 67"/>
                    <p:cNvSpPr/>
                    <p:nvPr/>
                  </p:nvSpPr>
                  <p:spPr>
                    <a:xfrm flipH="1" rot="4126800">
                      <a:off x="5022000" y="1544400"/>
                      <a:ext cx="144216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Freeform 68"/>
                    <p:cNvSpPr/>
                    <p:nvPr/>
                  </p:nvSpPr>
                  <p:spPr>
                    <a:xfrm flipH="1" rot="4126800">
                      <a:off x="4869720" y="484560"/>
                      <a:ext cx="77472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Group 69"/>
                  <p:cNvGrpSpPr/>
                  <p:nvPr/>
                </p:nvGrpSpPr>
                <p:grpSpPr>
                  <a:xfrm>
                    <a:off x="6241680" y="1049760"/>
                    <a:ext cx="2554200" cy="1225440"/>
                    <a:chOff x="6241680" y="1049760"/>
                    <a:chExt cx="2554200" cy="1225440"/>
                  </a:xfrm>
                </p:grpSpPr>
                <p:sp>
                  <p:nvSpPr>
                    <p:cNvPr id="676" name="Freeform 70"/>
                    <p:cNvSpPr/>
                    <p:nvPr/>
                  </p:nvSpPr>
                  <p:spPr>
                    <a:xfrm rot="20274000">
                      <a:off x="6234840" y="167868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71"/>
                    <p:cNvSpPr/>
                    <p:nvPr/>
                  </p:nvSpPr>
                  <p:spPr>
                    <a:xfrm rot="20274000">
                      <a:off x="7842960" y="120204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Group 72"/>
                  <p:cNvGrpSpPr/>
                  <p:nvPr/>
                </p:nvGrpSpPr>
                <p:grpSpPr>
                  <a:xfrm>
                    <a:off x="6095880" y="689760"/>
                    <a:ext cx="2423880" cy="1599840"/>
                    <a:chOff x="6095880" y="689760"/>
                    <a:chExt cx="2423880" cy="1599840"/>
                  </a:xfrm>
                </p:grpSpPr>
                <p:sp>
                  <p:nvSpPr>
                    <p:cNvPr id="679" name="Freeform 73"/>
                    <p:cNvSpPr/>
                    <p:nvPr/>
                  </p:nvSpPr>
                  <p:spPr>
                    <a:xfrm rot="19678800">
                      <a:off x="6045480" y="1575360"/>
                      <a:ext cx="16758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Freeform 74"/>
                    <p:cNvSpPr/>
                    <p:nvPr/>
                  </p:nvSpPr>
                  <p:spPr>
                    <a:xfrm rot="19678800">
                      <a:off x="7566840" y="893160"/>
                      <a:ext cx="89964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Freeform 75"/>
                  <p:cNvSpPr/>
                  <p:nvPr/>
                </p:nvSpPr>
                <p:spPr>
                  <a:xfrm flipH="1" rot="4578600">
                    <a:off x="5254200" y="1616040"/>
                    <a:ext cx="139572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Freeform 76"/>
                  <p:cNvSpPr/>
                  <p:nvPr/>
                </p:nvSpPr>
                <p:spPr>
                  <a:xfrm flipH="1" rot="4578600">
                    <a:off x="5285520" y="593280"/>
                    <a:ext cx="75024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3" name="Group 77"/>
                  <p:cNvGrpSpPr/>
                  <p:nvPr/>
                </p:nvGrpSpPr>
                <p:grpSpPr>
                  <a:xfrm>
                    <a:off x="5904360" y="297000"/>
                    <a:ext cx="1318680" cy="2095560"/>
                    <a:chOff x="5904360" y="297000"/>
                    <a:chExt cx="1318680" cy="2095560"/>
                  </a:xfrm>
                </p:grpSpPr>
                <p:sp>
                  <p:nvSpPr>
                    <p:cNvPr id="684" name="Freeform 78"/>
                    <p:cNvSpPr/>
                    <p:nvPr/>
                  </p:nvSpPr>
                  <p:spPr>
                    <a:xfrm rot="17742000">
                      <a:off x="5608080" y="1562760"/>
                      <a:ext cx="14436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Freeform 79"/>
                    <p:cNvSpPr/>
                    <p:nvPr/>
                  </p:nvSpPr>
                  <p:spPr>
                    <a:xfrm rot="17742000">
                      <a:off x="6490800" y="534600"/>
                      <a:ext cx="774360" cy="39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Group 80"/>
                  <p:cNvGrpSpPr/>
                  <p:nvPr/>
                </p:nvGrpSpPr>
                <p:grpSpPr>
                  <a:xfrm>
                    <a:off x="5895360" y="428400"/>
                    <a:ext cx="2085120" cy="1980360"/>
                    <a:chOff x="5895360" y="428400"/>
                    <a:chExt cx="2085120" cy="1980360"/>
                  </a:xfrm>
                </p:grpSpPr>
                <p:sp>
                  <p:nvSpPr>
                    <p:cNvPr id="687" name="Freeform 81"/>
                    <p:cNvSpPr/>
                    <p:nvPr/>
                  </p:nvSpPr>
                  <p:spPr>
                    <a:xfrm rot="18822600">
                      <a:off x="5785200" y="1530720"/>
                      <a:ext cx="1569960" cy="36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Freeform 82"/>
                    <p:cNvSpPr/>
                    <p:nvPr/>
                  </p:nvSpPr>
                  <p:spPr>
                    <a:xfrm rot="18822600">
                      <a:off x="7060320" y="643680"/>
                      <a:ext cx="84240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83"/>
                  <p:cNvGrpSpPr/>
                  <p:nvPr/>
                </p:nvGrpSpPr>
                <p:grpSpPr>
                  <a:xfrm>
                    <a:off x="6017040" y="322200"/>
                    <a:ext cx="471600" cy="1979280"/>
                    <a:chOff x="6017040" y="322200"/>
                    <a:chExt cx="471600" cy="1979280"/>
                  </a:xfrm>
                </p:grpSpPr>
                <p:sp>
                  <p:nvSpPr>
                    <p:cNvPr id="690" name="Freeform 84"/>
                    <p:cNvSpPr/>
                    <p:nvPr/>
                  </p:nvSpPr>
                  <p:spPr>
                    <a:xfrm rot="16696200">
                      <a:off x="5519880" y="1593360"/>
                      <a:ext cx="129600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Freeform 85"/>
                    <p:cNvSpPr/>
                    <p:nvPr/>
                  </p:nvSpPr>
                  <p:spPr>
                    <a:xfrm rot="16696200">
                      <a:off x="5999760" y="587880"/>
                      <a:ext cx="695880" cy="18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Group 86"/>
                  <p:cNvGrpSpPr/>
                  <p:nvPr/>
                </p:nvGrpSpPr>
                <p:grpSpPr>
                  <a:xfrm>
                    <a:off x="3376080" y="2788560"/>
                    <a:ext cx="2420280" cy="3310560"/>
                    <a:chOff x="3376080" y="2788560"/>
                    <a:chExt cx="2420280" cy="3310560"/>
                  </a:xfrm>
                </p:grpSpPr>
                <p:sp>
                  <p:nvSpPr>
                    <p:cNvPr id="693" name="Freeform 87"/>
                    <p:cNvSpPr/>
                    <p:nvPr/>
                  </p:nvSpPr>
                  <p:spPr>
                    <a:xfrm flipH="1" rot="18336000">
                      <a:off x="3770280" y="3652560"/>
                      <a:ext cx="23428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88"/>
                    <p:cNvSpPr/>
                    <p:nvPr/>
                  </p:nvSpPr>
                  <p:spPr>
                    <a:xfrm flipH="1" rot="18336000">
                      <a:off x="3383640" y="506124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Group 89"/>
                  <p:cNvGrpSpPr/>
                  <p:nvPr/>
                </p:nvGrpSpPr>
                <p:grpSpPr>
                  <a:xfrm>
                    <a:off x="4179240" y="2921400"/>
                    <a:ext cx="1634400" cy="3306600"/>
                    <a:chOff x="4179240" y="2921400"/>
                    <a:chExt cx="1634400" cy="3306600"/>
                  </a:xfrm>
                </p:grpSpPr>
                <p:sp>
                  <p:nvSpPr>
                    <p:cNvPr id="696" name="Freeform 90"/>
                    <p:cNvSpPr/>
                    <p:nvPr/>
                  </p:nvSpPr>
                  <p:spPr>
                    <a:xfrm flipH="1" rot="17543400">
                      <a:off x="4120200" y="3792240"/>
                      <a:ext cx="21679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Freeform 91"/>
                    <p:cNvSpPr/>
                    <p:nvPr/>
                  </p:nvSpPr>
                  <p:spPr>
                    <a:xfrm flipH="1" rot="17543400">
                      <a:off x="4127040" y="5230080"/>
                      <a:ext cx="1163160" cy="66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Group 92"/>
                  <p:cNvGrpSpPr/>
                  <p:nvPr/>
                </p:nvGrpSpPr>
                <p:grpSpPr>
                  <a:xfrm>
                    <a:off x="4970160" y="2979000"/>
                    <a:ext cx="963360" cy="3226680"/>
                    <a:chOff x="4970160" y="2979000"/>
                    <a:chExt cx="963360" cy="3226680"/>
                  </a:xfrm>
                </p:grpSpPr>
                <p:sp>
                  <p:nvSpPr>
                    <p:cNvPr id="699" name="Freeform 93"/>
                    <p:cNvSpPr/>
                    <p:nvPr/>
                  </p:nvSpPr>
                  <p:spPr>
                    <a:xfrm flipH="1" rot="16870800">
                      <a:off x="4505040" y="3845160"/>
                      <a:ext cx="2079720" cy="38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Freeform 94"/>
                    <p:cNvSpPr/>
                    <p:nvPr/>
                  </p:nvSpPr>
                  <p:spPr>
                    <a:xfrm flipH="1" rot="16870800">
                      <a:off x="4814640" y="5300280"/>
                      <a:ext cx="1115640" cy="60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Group 95"/>
                  <p:cNvGrpSpPr/>
                  <p:nvPr/>
                </p:nvGrpSpPr>
                <p:grpSpPr>
                  <a:xfrm>
                    <a:off x="6260040" y="2736360"/>
                    <a:ext cx="2514240" cy="3255120"/>
                    <a:chOff x="6260040" y="2736360"/>
                    <a:chExt cx="2514240" cy="3255120"/>
                  </a:xfrm>
                </p:grpSpPr>
                <p:sp>
                  <p:nvSpPr>
                    <p:cNvPr id="702" name="Freeform 96"/>
                    <p:cNvSpPr/>
                    <p:nvPr/>
                  </p:nvSpPr>
                  <p:spPr>
                    <a:xfrm rot="3144000">
                      <a:off x="5970960" y="3581640"/>
                      <a:ext cx="2343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Freeform 97"/>
                    <p:cNvSpPr/>
                    <p:nvPr/>
                  </p:nvSpPr>
                  <p:spPr>
                    <a:xfrm rot="3144000">
                      <a:off x="7498080" y="4957200"/>
                      <a:ext cx="1257120" cy="66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Group 98"/>
                  <p:cNvGrpSpPr/>
                  <p:nvPr/>
                </p:nvGrpSpPr>
                <p:grpSpPr>
                  <a:xfrm>
                    <a:off x="6226200" y="2858400"/>
                    <a:ext cx="1938600" cy="3342600"/>
                    <a:chOff x="6226200" y="2858400"/>
                    <a:chExt cx="1938600" cy="3342600"/>
                  </a:xfrm>
                </p:grpSpPr>
                <p:sp>
                  <p:nvSpPr>
                    <p:cNvPr id="705" name="Freeform 99"/>
                    <p:cNvSpPr/>
                    <p:nvPr/>
                  </p:nvSpPr>
                  <p:spPr>
                    <a:xfrm rot="3745200">
                      <a:off x="5804280" y="3742920"/>
                      <a:ext cx="2242440" cy="40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Freeform 100"/>
                    <p:cNvSpPr/>
                    <p:nvPr/>
                  </p:nvSpPr>
                  <p:spPr>
                    <a:xfrm rot="3745200">
                      <a:off x="7002360" y="5201640"/>
                      <a:ext cx="1202760" cy="63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Group 101"/>
                  <p:cNvGrpSpPr/>
                  <p:nvPr/>
                </p:nvGrpSpPr>
                <p:grpSpPr>
                  <a:xfrm>
                    <a:off x="6147000" y="2987280"/>
                    <a:ext cx="1351080" cy="3292560"/>
                    <a:chOff x="6147000" y="2987280"/>
                    <a:chExt cx="1351080" cy="3292560"/>
                  </a:xfrm>
                </p:grpSpPr>
                <p:sp>
                  <p:nvSpPr>
                    <p:cNvPr id="708" name="Freeform 102"/>
                    <p:cNvSpPr/>
                    <p:nvPr/>
                  </p:nvSpPr>
                  <p:spPr>
                    <a:xfrm rot="4286400">
                      <a:off x="5563800" y="3904560"/>
                      <a:ext cx="21758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Freeform 103"/>
                    <p:cNvSpPr/>
                    <p:nvPr/>
                  </p:nvSpPr>
                  <p:spPr>
                    <a:xfrm rot="4286400">
                      <a:off x="6479640" y="5380560"/>
                      <a:ext cx="1167480" cy="52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Group 104"/>
                  <p:cNvGrpSpPr/>
                  <p:nvPr/>
                </p:nvGrpSpPr>
                <p:grpSpPr>
                  <a:xfrm>
                    <a:off x="6086880" y="3130560"/>
                    <a:ext cx="768600" cy="3062160"/>
                    <a:chOff x="6086880" y="3130560"/>
                    <a:chExt cx="768600" cy="3062160"/>
                  </a:xfrm>
                </p:grpSpPr>
                <p:sp>
                  <p:nvSpPr>
                    <p:cNvPr id="711" name="Freeform 105"/>
                    <p:cNvSpPr/>
                    <p:nvPr/>
                  </p:nvSpPr>
                  <p:spPr>
                    <a:xfrm rot="4898400">
                      <a:off x="5397480" y="3976560"/>
                      <a:ext cx="19994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106"/>
                    <p:cNvSpPr/>
                    <p:nvPr/>
                  </p:nvSpPr>
                  <p:spPr>
                    <a:xfrm rot="4898400">
                      <a:off x="5980680" y="5361120"/>
                      <a:ext cx="1073880" cy="52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07"/>
                  <p:cNvGrpSpPr/>
                  <p:nvPr/>
                </p:nvGrpSpPr>
                <p:grpSpPr>
                  <a:xfrm>
                    <a:off x="5468760" y="3182400"/>
                    <a:ext cx="731520" cy="2995200"/>
                    <a:chOff x="5468760" y="3182400"/>
                    <a:chExt cx="731520" cy="2995200"/>
                  </a:xfrm>
                </p:grpSpPr>
                <p:sp>
                  <p:nvSpPr>
                    <p:cNvPr id="714" name="Freeform 108"/>
                    <p:cNvSpPr/>
                    <p:nvPr/>
                  </p:nvSpPr>
                  <p:spPr>
                    <a:xfrm rot="5755200">
                      <a:off x="4995720" y="4039200"/>
                      <a:ext cx="195336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09"/>
                    <p:cNvSpPr/>
                    <p:nvPr/>
                  </p:nvSpPr>
                  <p:spPr>
                    <a:xfrm rot="5755200">
                      <a:off x="5197680" y="5435280"/>
                      <a:ext cx="1047960" cy="40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16" name="Group 110"/>
              <p:cNvGrpSpPr/>
              <p:nvPr/>
            </p:nvGrpSpPr>
            <p:grpSpPr>
              <a:xfrm>
                <a:off x="2397240" y="752040"/>
                <a:ext cx="7422120" cy="4984200"/>
                <a:chOff x="2397240" y="752040"/>
                <a:chExt cx="7422120" cy="4984200"/>
              </a:xfrm>
            </p:grpSpPr>
            <p:grpSp>
              <p:nvGrpSpPr>
                <p:cNvPr id="717" name="Group 111"/>
                <p:cNvGrpSpPr/>
                <p:nvPr/>
              </p:nvGrpSpPr>
              <p:grpSpPr>
                <a:xfrm>
                  <a:off x="2397240" y="752040"/>
                  <a:ext cx="7422120" cy="4984200"/>
                  <a:chOff x="2397240" y="752040"/>
                  <a:chExt cx="7422120" cy="4984200"/>
                </a:xfrm>
              </p:grpSpPr>
              <p:sp>
                <p:nvSpPr>
                  <p:cNvPr id="718" name="Arc 112"/>
                  <p:cNvSpPr/>
                  <p:nvPr/>
                </p:nvSpPr>
                <p:spPr>
                  <a:xfrm flipV="1">
                    <a:off x="6329520" y="946080"/>
                    <a:ext cx="3489840" cy="2780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rc 113"/>
                  <p:cNvSpPr/>
                  <p:nvPr/>
                </p:nvSpPr>
                <p:spPr>
                  <a:xfrm flipH="1">
                    <a:off x="2823840" y="2502720"/>
                    <a:ext cx="2740680" cy="3233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rc 114"/>
                  <p:cNvSpPr/>
                  <p:nvPr/>
                </p:nvSpPr>
                <p:spPr>
                  <a:xfrm>
                    <a:off x="6415200" y="1931760"/>
                    <a:ext cx="1938600" cy="3233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rc 115"/>
                  <p:cNvSpPr/>
                  <p:nvPr/>
                </p:nvSpPr>
                <p:spPr>
                  <a:xfrm flipH="1">
                    <a:off x="2396880" y="1431360"/>
                    <a:ext cx="3453480" cy="3233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rc 116"/>
                  <p:cNvSpPr/>
                  <p:nvPr/>
                </p:nvSpPr>
                <p:spPr>
                  <a:xfrm flipH="1">
                    <a:off x="3371040" y="752040"/>
                    <a:ext cx="2514960" cy="3131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Arc 117"/>
                  <p:cNvSpPr/>
                  <p:nvPr/>
                </p:nvSpPr>
                <p:spPr>
                  <a:xfrm>
                    <a:off x="6053400" y="2067480"/>
                    <a:ext cx="1038600" cy="3131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Freeform 118"/>
                  <p:cNvSpPr/>
                  <p:nvPr/>
                </p:nvSpPr>
                <p:spPr>
                  <a:xfrm flipH="1">
                    <a:off x="4744440" y="921600"/>
                    <a:ext cx="568080" cy="20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5" name="Freeform 119"/>
                <p:cNvSpPr/>
                <p:nvPr/>
              </p:nvSpPr>
              <p:spPr>
                <a:xfrm rot="20253000">
                  <a:off x="6756480" y="2404080"/>
                  <a:ext cx="600840" cy="113760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6" name="Group 120"/>
            <p:cNvGrpSpPr/>
            <p:nvPr/>
          </p:nvGrpSpPr>
          <p:grpSpPr>
            <a:xfrm>
              <a:off x="2582280" y="785160"/>
              <a:ext cx="7067520" cy="5189760"/>
              <a:chOff x="2582280" y="785160"/>
              <a:chExt cx="7067520" cy="5189760"/>
            </a:xfrm>
          </p:grpSpPr>
          <p:sp>
            <p:nvSpPr>
              <p:cNvPr id="727" name="Freeform 121"/>
              <p:cNvSpPr/>
              <p:nvPr/>
            </p:nvSpPr>
            <p:spPr>
              <a:xfrm flipH="1">
                <a:off x="4926240" y="356508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Arc 122"/>
              <p:cNvSpPr/>
              <p:nvPr/>
            </p:nvSpPr>
            <p:spPr>
              <a:xfrm flipH="1">
                <a:off x="3729600" y="2842920"/>
                <a:ext cx="2885040" cy="3132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Arc 123"/>
              <p:cNvSpPr/>
              <p:nvPr/>
            </p:nvSpPr>
            <p:spPr>
              <a:xfrm flipH="1">
                <a:off x="4017960" y="2338560"/>
                <a:ext cx="1691280" cy="323388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Arc 124"/>
              <p:cNvSpPr/>
              <p:nvPr/>
            </p:nvSpPr>
            <p:spPr>
              <a:xfrm flipH="1">
                <a:off x="2582280" y="1914840"/>
                <a:ext cx="3230640" cy="32335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Arc 125"/>
              <p:cNvSpPr/>
              <p:nvPr/>
            </p:nvSpPr>
            <p:spPr>
              <a:xfrm>
                <a:off x="6158160" y="2370240"/>
                <a:ext cx="517680" cy="32338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Arc 126"/>
              <p:cNvSpPr/>
              <p:nvPr/>
            </p:nvSpPr>
            <p:spPr>
              <a:xfrm>
                <a:off x="6294240" y="2355120"/>
                <a:ext cx="1364760" cy="32338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127"/>
              <p:cNvSpPr/>
              <p:nvPr/>
            </p:nvSpPr>
            <p:spPr>
              <a:xfrm>
                <a:off x="6784920" y="3909240"/>
                <a:ext cx="659520" cy="2010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128"/>
              <p:cNvSpPr/>
              <p:nvPr/>
            </p:nvSpPr>
            <p:spPr>
              <a:xfrm flipV="1" rot="19660800">
                <a:off x="5758560" y="3249720"/>
                <a:ext cx="600480" cy="113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Freeform 129"/>
              <p:cNvSpPr/>
              <p:nvPr/>
            </p:nvSpPr>
            <p:spPr>
              <a:xfrm flipH="1">
                <a:off x="2961360" y="3731040"/>
                <a:ext cx="14752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130"/>
              <p:cNvSpPr/>
              <p:nvPr/>
            </p:nvSpPr>
            <p:spPr>
              <a:xfrm flipH="1">
                <a:off x="3656520" y="1540800"/>
                <a:ext cx="946080" cy="2071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Freeform 131"/>
              <p:cNvSpPr/>
              <p:nvPr/>
            </p:nvSpPr>
            <p:spPr>
              <a:xfrm>
                <a:off x="8280720" y="3426480"/>
                <a:ext cx="1369080" cy="217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132"/>
              <p:cNvSpPr/>
              <p:nvPr/>
            </p:nvSpPr>
            <p:spPr>
              <a:xfrm>
                <a:off x="7569720" y="2325240"/>
                <a:ext cx="2063880" cy="145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Freeform 133"/>
              <p:cNvSpPr/>
              <p:nvPr/>
            </p:nvSpPr>
            <p:spPr>
              <a:xfrm>
                <a:off x="7645680" y="785160"/>
                <a:ext cx="901080" cy="194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134"/>
              <p:cNvSpPr/>
              <p:nvPr/>
            </p:nvSpPr>
            <p:spPr>
              <a:xfrm flipH="1" rot="1347000">
                <a:off x="4610520" y="2374200"/>
                <a:ext cx="600840" cy="1137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55640" y="331920"/>
            <a:ext cx="8569440" cy="161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3399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1" marL="819000" indent="-315720">
              <a:spcBef>
                <a:spcPts val="876"/>
              </a:spcBef>
              <a:buClr>
                <a:srgbClr val="fe1f08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Arial Black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−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5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  <a:p>
            <a:pPr lvl="6" marL="2268360" indent="-252360">
              <a:spcBef>
                <a:spcPts val="876"/>
              </a:spcBef>
              <a:buClr>
                <a:srgbClr val="ffcc0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12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13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14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it-IT" sz="15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D254D41-7BCA-476E-9B5E-4BBBA6C94993}" type="slidenum">
              <a:rPr b="0" lang="it-IT" sz="15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"/>
          <p:cNvSpPr/>
          <p:nvPr/>
        </p:nvSpPr>
        <p:spPr>
          <a:xfrm>
            <a:off x="325440" y="191124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Mathématiques en coule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tribution des p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7 mai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6769080" y="1042920"/>
            <a:ext cx="1905120" cy="110484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3" descr=""/>
          <p:cNvPicPr/>
          <p:nvPr/>
        </p:nvPicPr>
        <p:blipFill>
          <a:blip r:embed="rId2"/>
          <a:stretch/>
        </p:blipFill>
        <p:spPr>
          <a:xfrm>
            <a:off x="576360" y="1042920"/>
            <a:ext cx="2808360" cy="9511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4"/>
          <p:cNvSpPr/>
          <p:nvPr/>
        </p:nvSpPr>
        <p:spPr>
          <a:xfrm>
            <a:off x="905040" y="2700360"/>
            <a:ext cx="8410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Ebrima"/>
              </a:rPr>
              <a:t>M</a:t>
            </a:r>
            <a:r>
              <a:rPr b="0" lang="it-IT" sz="4400" spc="-1" strike="noStrike">
                <a:solidFill>
                  <a:srgbClr val="666666"/>
                </a:solidFill>
                <a:latin typeface="Ebrima"/>
              </a:rPr>
              <a:t>atematica</a:t>
            </a:r>
            <a:r>
              <a:rPr b="0" lang="it-IT" sz="4400" spc="-1" strike="noStrike">
                <a:solidFill>
                  <a:srgbClr val="000000"/>
                </a:solidFill>
                <a:latin typeface="Ebrima"/>
              </a:rPr>
              <a:t> S</a:t>
            </a:r>
            <a:r>
              <a:rPr b="0" lang="it-IT" sz="4400" spc="-1" strike="noStrike">
                <a:solidFill>
                  <a:srgbClr val="666666"/>
                </a:solidFill>
                <a:latin typeface="Ebrima"/>
              </a:rPr>
              <a:t>enza </a:t>
            </a:r>
            <a:r>
              <a:rPr b="0" lang="it-IT" sz="4400" spc="-1" strike="noStrike">
                <a:solidFill>
                  <a:srgbClr val="000000"/>
                </a:solidFill>
                <a:latin typeface="Ebrima"/>
              </a:rPr>
              <a:t>F</a:t>
            </a:r>
            <a:r>
              <a:rPr b="0" lang="it-IT" sz="4400" spc="-1" strike="noStrike">
                <a:solidFill>
                  <a:srgbClr val="666666"/>
                </a:solidFill>
                <a:latin typeface="Ebrima"/>
              </a:rPr>
              <a:t>ronti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2"/>
          <p:cNvSpPr/>
          <p:nvPr/>
        </p:nvSpPr>
        <p:spPr>
          <a:xfrm>
            <a:off x="719280" y="2484360"/>
            <a:ext cx="906912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4" descr=""/>
          <p:cNvPicPr/>
          <p:nvPr/>
        </p:nvPicPr>
        <p:blipFill>
          <a:blip r:embed="rId1"/>
          <a:stretch/>
        </p:blipFill>
        <p:spPr>
          <a:xfrm>
            <a:off x="1727280" y="755640"/>
            <a:ext cx="1376280" cy="19414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11"/>
          <p:cNvSpPr/>
          <p:nvPr/>
        </p:nvSpPr>
        <p:spPr>
          <a:xfrm>
            <a:off x="1871640" y="2700360"/>
            <a:ext cx="1728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8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13"/>
          <p:cNvSpPr/>
          <p:nvPr/>
        </p:nvSpPr>
        <p:spPr>
          <a:xfrm>
            <a:off x="719280" y="478800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14"/>
          <p:cNvSpPr/>
          <p:nvPr/>
        </p:nvSpPr>
        <p:spPr>
          <a:xfrm>
            <a:off x="7272360" y="2771640"/>
            <a:ext cx="1728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97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360360" y="1042920"/>
            <a:ext cx="727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o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19"/>
          <p:cNvSpPr/>
          <p:nvPr/>
        </p:nvSpPr>
        <p:spPr>
          <a:xfrm>
            <a:off x="2303640" y="250920"/>
            <a:ext cx="4897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rès un excursus historique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1"/>
          <p:cNvSpPr/>
          <p:nvPr/>
        </p:nvSpPr>
        <p:spPr>
          <a:xfrm>
            <a:off x="4464000" y="2340000"/>
            <a:ext cx="108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5" name="Picture 22" descr=""/>
          <p:cNvPicPr/>
          <p:nvPr/>
        </p:nvPicPr>
        <p:blipFill>
          <a:blip r:embed="rId2"/>
          <a:stretch/>
        </p:blipFill>
        <p:spPr>
          <a:xfrm>
            <a:off x="5472000" y="140328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23"/>
          <p:cNvSpPr/>
          <p:nvPr/>
        </p:nvSpPr>
        <p:spPr>
          <a:xfrm>
            <a:off x="6840360" y="2484360"/>
            <a:ext cx="1974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Wolfgang Ha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503280" y="4356000"/>
            <a:ext cx="7850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è illustrato 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26"/>
          <p:cNvSpPr/>
          <p:nvPr/>
        </p:nvSpPr>
        <p:spPr>
          <a:xfrm>
            <a:off x="1079640" y="3348000"/>
            <a:ext cx="75596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n a compris que les différentes configurations des cartes peuvent être décrites à l’aide de la théorie des graphes, de la dimension de la configuration, représentée par le nombre des sommets du bord de l’anneau extérieur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n a aussi fait allusion à l’affaire des querelles sur la flabilité de l’utilisation des algoritmes informatiques pour lo contrôle de l’exactitude de la conj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1"/>
          <p:cNvSpPr/>
          <p:nvPr/>
        </p:nvSpPr>
        <p:spPr>
          <a:xfrm>
            <a:off x="539640" y="301680"/>
            <a:ext cx="90331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s 4 couleurs aux grap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Picture 2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3" descr=""/>
          <p:cNvPicPr/>
          <p:nvPr/>
        </p:nvPicPr>
        <p:blipFill>
          <a:blip r:embed="rId2"/>
          <a:stretch/>
        </p:blipFill>
        <p:spPr>
          <a:xfrm>
            <a:off x="3932280" y="1440000"/>
            <a:ext cx="2019240" cy="233820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4" descr=""/>
          <p:cNvPicPr/>
          <p:nvPr/>
        </p:nvPicPr>
        <p:blipFill>
          <a:blip r:embed="rId3"/>
          <a:stretch/>
        </p:blipFill>
        <p:spPr>
          <a:xfrm>
            <a:off x="7172280" y="1441440"/>
            <a:ext cx="2006640" cy="233856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5" descr=""/>
          <p:cNvPicPr/>
          <p:nvPr/>
        </p:nvPicPr>
        <p:blipFill>
          <a:blip r:embed="rId4"/>
          <a:stretch/>
        </p:blipFill>
        <p:spPr>
          <a:xfrm>
            <a:off x="719280" y="450072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6" descr=""/>
          <p:cNvPicPr/>
          <p:nvPr/>
        </p:nvPicPr>
        <p:blipFill>
          <a:blip r:embed="rId5"/>
          <a:stretch/>
        </p:blipFill>
        <p:spPr>
          <a:xfrm>
            <a:off x="6480000" y="4211640"/>
            <a:ext cx="2880000" cy="213192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8"/>
          <p:cNvSpPr/>
          <p:nvPr/>
        </p:nvSpPr>
        <p:spPr>
          <a:xfrm>
            <a:off x="7128000" y="6804000"/>
            <a:ext cx="100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??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1"/>
          <p:cNvSpPr/>
          <p:nvPr/>
        </p:nvSpPr>
        <p:spPr>
          <a:xfrm>
            <a:off x="50328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ar la suite, nous avons traversé, au sens figuré, les ponts d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Königsberg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2"/>
          <p:cNvSpPr/>
          <p:nvPr/>
        </p:nvSpPr>
        <p:spPr>
          <a:xfrm>
            <a:off x="431640" y="1835280"/>
            <a:ext cx="44514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i sont devenus célèbres car Euler a été le seul en mesure d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oudre le problème s’y rattachant (17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8" name="Picture 3" descr=""/>
          <p:cNvPicPr/>
          <p:nvPr/>
        </p:nvPicPr>
        <p:blipFill>
          <a:blip r:embed="rId1"/>
          <a:stretch/>
        </p:blipFill>
        <p:spPr>
          <a:xfrm>
            <a:off x="4824360" y="1908000"/>
            <a:ext cx="466416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2"/>
          <p:cNvSpPr/>
          <p:nvPr/>
        </p:nvSpPr>
        <p:spPr>
          <a:xfrm>
            <a:off x="287280" y="250920"/>
            <a:ext cx="579276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uler compta le nombre de lignes (ponts) qui se concentrent dans chaque point (ter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, 3, 5 e 3 et démontra le théorème suiva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0" name="Picture 3" descr=""/>
          <p:cNvPicPr/>
          <p:nvPr/>
        </p:nvPicPr>
        <p:blipFill>
          <a:blip r:embed="rId1"/>
          <a:stretch/>
        </p:blipFill>
        <p:spPr>
          <a:xfrm>
            <a:off x="7056360" y="324000"/>
            <a:ext cx="2249640" cy="29080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"/>
          <p:cNvPicPr/>
          <p:nvPr/>
        </p:nvPicPr>
        <p:blipFill>
          <a:blip r:embed="rId2"/>
          <a:stretch/>
        </p:blipFill>
        <p:spPr>
          <a:xfrm>
            <a:off x="2592360" y="3708360"/>
            <a:ext cx="2664000" cy="229248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6"/>
          <p:cNvSpPr/>
          <p:nvPr/>
        </p:nvSpPr>
        <p:spPr>
          <a:xfrm>
            <a:off x="360360" y="2484360"/>
            <a:ext cx="51847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’importe quel graphe peut être parcouru si, et seulement si, tous les noeuds sont</a:t>
            </a:r>
            <a:r>
              <a:rPr b="0" i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airs, ou deux d’entre eux, sont impai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1"/>
          <p:cNvSpPr/>
          <p:nvPr/>
        </p:nvSpPr>
        <p:spPr>
          <a:xfrm>
            <a:off x="216000" y="0"/>
            <a:ext cx="95756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ourquoi la théorie des graphes est intéressa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2"/>
          <p:cNvSpPr/>
          <p:nvPr/>
        </p:nvSpPr>
        <p:spPr>
          <a:xfrm>
            <a:off x="287280" y="798480"/>
            <a:ext cx="9001080" cy="57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12720" indent="-608040">
              <a:lnSpc>
                <a:spcPct val="73000"/>
              </a:lnSpc>
              <a:spcBef>
                <a:spcPts val="700"/>
              </a:spcBef>
              <a:tabLst>
                <a:tab algn="l" pos="0"/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xer le chemin d’un véhicule de la poste de façon à distribuer le courrier d’une manière plus efficiente (Postman's Proble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00"/>
              </a:spcBef>
              <a:tabLst>
                <a:tab algn="l" pos="0"/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èmes d’inspection et entretien de systèmes tels que: les réseaux électriques, téléphoniques, routi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00"/>
              </a:spcBef>
              <a:tabLst>
                <a:tab algn="l" pos="0"/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ème de quatre couleur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tabLst>
                <a:tab algn="l" pos="0"/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xtes de circuits électroniques imprimés, allocation di variables et registres de la CPU, affectation de fréquences radiophoniques et télévisu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2720" indent="-608040">
              <a:lnSpc>
                <a:spcPct val="7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1272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…LE VOYAGEUR DE COMMERCE : une fois donné un ensemble de villes, quel est le chemin le plus bref qui les traverse toutes en une seule foi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1876680" y="694836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42472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Quelques problèmes propos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3280" y="1115640"/>
            <a:ext cx="905832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rtes et coul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loriez les cartes ci-desso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1"/>
          <a:stretch/>
        </p:blipFill>
        <p:spPr>
          <a:xfrm>
            <a:off x="1584360" y="3132000"/>
            <a:ext cx="2666880" cy="221328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5" descr=""/>
          <p:cNvPicPr/>
          <p:nvPr/>
        </p:nvPicPr>
        <p:blipFill>
          <a:blip r:embed="rId2"/>
          <a:stretch/>
        </p:blipFill>
        <p:spPr>
          <a:xfrm>
            <a:off x="6119640" y="3203640"/>
            <a:ext cx="2498760" cy="214776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6"/>
          <p:cNvSpPr/>
          <p:nvPr/>
        </p:nvSpPr>
        <p:spPr>
          <a:xfrm>
            <a:off x="647640" y="6084720"/>
            <a:ext cx="7129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vec respectivement 3 et 4 coule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1949400" y="70200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3280" y="0"/>
            <a:ext cx="9058320" cy="15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histoire qui se répè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86920" y="1042920"/>
            <a:ext cx="943308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ardez l’illustration, vous pouvez l’obtenir en collant convenablement un ruban en pap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Vous devez écrire les strophes de la comptine sur le ruban de façon à ce que l’histoire puisse être lue à l’infi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" descr=""/>
          <p:cNvPicPr/>
          <p:nvPr/>
        </p:nvPicPr>
        <p:blipFill>
          <a:blip r:embed="rId1"/>
          <a:stretch/>
        </p:blipFill>
        <p:spPr>
          <a:xfrm>
            <a:off x="792000" y="3348000"/>
            <a:ext cx="2940120" cy="3470400"/>
          </a:xfrm>
          <a:prstGeom prst="rect">
            <a:avLst/>
          </a:prstGeom>
          <a:ln w="0">
            <a:noFill/>
          </a:ln>
        </p:spPr>
      </p:pic>
      <p:sp>
        <p:nvSpPr>
          <p:cNvPr id="865" name="Rectangle 5"/>
          <p:cNvSpPr/>
          <p:nvPr/>
        </p:nvSpPr>
        <p:spPr>
          <a:xfrm>
            <a:off x="5272920" y="3481200"/>
            <a:ext cx="330804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l était une fois un r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sis sur un sof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Qui dit à sa serva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«Raconte-moi une histoire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t sa servante comme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l était une fois un r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sis sur un sof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Qui dit à sa serva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«Raconte-moi une histoire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Et la servante commença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09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2237040" y="694836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286920" y="1042920"/>
            <a:ext cx="943308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2237040" y="694836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onella Trevisol – AI MsF - Torino 21 magg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1008000" y="2050920"/>
            <a:ext cx="835200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travail préliminaire à la distribution des prix a constitué l’occasion pour connaitre l’activité que la collègue, Mme. Angela Aquilino, a développée dans son établissement au sein du Projet «Mathématiques et réalité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1415880" y="2111400"/>
            <a:ext cx="6720120" cy="5040360"/>
          </a:xfrm>
          <a:prstGeom prst="rect">
            <a:avLst/>
          </a:prstGeom>
          <a:ln w="0">
            <a:noFill/>
          </a:ln>
        </p:spPr>
      </p:pic>
      <p:sp>
        <p:nvSpPr>
          <p:cNvPr id="871" name="WordArt 3"/>
          <p:cNvSpPr txBox="1"/>
          <p:nvPr/>
        </p:nvSpPr>
        <p:spPr>
          <a:xfrm>
            <a:off x="673200" y="922320"/>
            <a:ext cx="8653320" cy="282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23149"/>
              </a:avLst>
            </a:prstTxWarp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Neverwinter"/>
              </a:rPr>
              <a:t>Liceo Scientific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Neverwinter"/>
              <a:ea typeface="Neverwinter"/>
            </a:endParaRPr>
          </a:p>
        </p:txBody>
      </p:sp>
      <p:sp>
        <p:nvSpPr>
          <p:cNvPr id="872" name="WordArt 4"/>
          <p:cNvSpPr txBox="1"/>
          <p:nvPr/>
        </p:nvSpPr>
        <p:spPr>
          <a:xfrm>
            <a:off x="2341440" y="2033640"/>
            <a:ext cx="4873680" cy="20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30369"/>
              </a:avLst>
            </a:prstTxWarp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Neverwinter"/>
              </a:rPr>
              <a:t>A. Romi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Neverwinter"/>
              <a:ea typeface="Neverwinter"/>
            </a:endParaRPr>
          </a:p>
        </p:txBody>
      </p:sp>
      <p:sp>
        <p:nvSpPr>
          <p:cNvPr id="873" name="Text Box 5"/>
          <p:cNvSpPr/>
          <p:nvPr/>
        </p:nvSpPr>
        <p:spPr>
          <a:xfrm>
            <a:off x="436680" y="5367240"/>
            <a:ext cx="39686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3500" spc="-1" strike="noStrike">
                <a:solidFill>
                  <a:srgbClr val="ffcc00"/>
                </a:solidFill>
                <a:latin typeface="Neverwinter"/>
              </a:rPr>
              <a:t>A.S. </a:t>
            </a:r>
            <a:r>
              <a:rPr b="0" lang="it-IT" sz="6000" spc="-1" strike="noStrike">
                <a:solidFill>
                  <a:srgbClr val="ffcc00"/>
                </a:solidFill>
                <a:latin typeface="Neverwinter"/>
              </a:rPr>
              <a:t>2006/0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515880" y="4573440"/>
            <a:ext cx="25416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Neverwinter"/>
              </a:rPr>
              <a:t>Classi 2 </a:t>
            </a:r>
            <a:r>
              <a:rPr b="0" lang="it-IT" sz="4000" spc="-1" strike="noStrike" baseline="30000">
                <a:solidFill>
                  <a:srgbClr val="ffcc00"/>
                </a:solidFill>
                <a:latin typeface="Neverwinter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595440" y="2747160"/>
            <a:ext cx="762156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it-IT" sz="3100" spc="-1" strike="noStrike">
                <a:solidFill>
                  <a:srgbClr val="fe1f08"/>
                </a:solidFill>
                <a:latin typeface="Forte"/>
              </a:rPr>
              <a:t>Colorions la carte de l’Afrique avec un nombre minimum de couleurs de façon à ce que deux états voisinants aient des couleurs différente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1"/>
          <p:cNvSpPr/>
          <p:nvPr/>
        </p:nvSpPr>
        <p:spPr>
          <a:xfrm>
            <a:off x="325440" y="191124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Picture 2" descr=""/>
          <p:cNvPicPr/>
          <p:nvPr/>
        </p:nvPicPr>
        <p:blipFill>
          <a:blip r:embed="rId1"/>
          <a:stretch/>
        </p:blipFill>
        <p:spPr>
          <a:xfrm>
            <a:off x="6840360" y="971640"/>
            <a:ext cx="1905120" cy="11048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3" descr=""/>
          <p:cNvPicPr/>
          <p:nvPr/>
        </p:nvPicPr>
        <p:blipFill>
          <a:blip r:embed="rId2"/>
          <a:stretch/>
        </p:blipFill>
        <p:spPr>
          <a:xfrm>
            <a:off x="576360" y="1042920"/>
            <a:ext cx="3024000" cy="102564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4"/>
          <p:cNvSpPr/>
          <p:nvPr/>
        </p:nvSpPr>
        <p:spPr>
          <a:xfrm>
            <a:off x="863640" y="3132000"/>
            <a:ext cx="8362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Ebrima"/>
              </a:rPr>
              <a:t>A l’occasion de la distribution des prix, on organise une compétition ludique afin de sélectionner les classes avec les meilleurs sco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Ebrima"/>
              </a:rPr>
              <a:t>Je vais vous proposer non seulement  une synthèse de la présentation, qui représente le leitmotiv des questions, mais aussi quelques problè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595440" y="3454560"/>
            <a:ext cx="76215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60360" y="539640"/>
            <a:ext cx="626436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93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100" spc="-1" strike="noStrike">
                <a:solidFill>
                  <a:srgbClr val="fe1f08"/>
                </a:solidFill>
                <a:latin typeface="Forte"/>
              </a:rPr>
              <a:t>Le choix de l’Afrique a été déterminé par l’activité de bénévolat réalisée par des élèves de l’établissement à l’aide de la vente d’objets qu’ils ont produits. Leur travail a permis de recuillir des fonds destinés à deux étudiants de Gorè au Tchad qui, de cette façon, ont pu continuer leurs études à l’Université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57120" y="933120"/>
            <a:ext cx="67471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900" spc="-1" strike="noStrike">
                <a:solidFill>
                  <a:srgbClr val="ff3300"/>
                </a:solidFill>
                <a:latin typeface="Forte"/>
              </a:rPr>
              <a:t>Nous pouvons également représenter le graphe  à l’aide de la matrice booléenne qui y correspond. </a:t>
            </a:r>
            <a:br>
              <a:rPr sz="2900"/>
            </a:br>
            <a:r>
              <a:rPr b="0" lang="it-IT" sz="2900" spc="-1" strike="noStrike">
                <a:solidFill>
                  <a:srgbClr val="ff3300"/>
                </a:solidFill>
                <a:latin typeface="Forte"/>
              </a:rPr>
              <a:t>Dans la matrice booléenne les noeuds du graphe marquent les lignes et les colonnes: dans la grille (x, y) </a:t>
            </a:r>
            <a:r>
              <a:rPr b="0" lang="fr-FR" sz="2900" spc="-1" strike="noStrike">
                <a:solidFill>
                  <a:srgbClr val="ff3300"/>
                </a:solidFill>
                <a:latin typeface="Forte"/>
              </a:rPr>
              <a:t>apparaît</a:t>
            </a:r>
            <a:r>
              <a:rPr b="0" lang="it-IT" sz="2900" spc="-1" strike="noStrike">
                <a:solidFill>
                  <a:srgbClr val="ff3300"/>
                </a:solidFill>
                <a:latin typeface="Forte"/>
              </a:rPr>
              <a:t> 1  si le noeud x  est lié au noeud y, 0u bien </a:t>
            </a:r>
            <a:endParaRPr b="0" lang="en-US" sz="29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357120" y="3303720"/>
          <a:ext cx="3503520" cy="4012920"/>
        </p:xfrm>
        <a:graphic>
          <a:graphicData uri="http://schemas.openxmlformats.org/drawingml/2006/table">
            <a:tbl>
              <a:tblPr/>
              <a:tblGrid>
                <a:gridCol w="405000"/>
                <a:gridCol w="515880"/>
                <a:gridCol w="587160"/>
                <a:gridCol w="446400"/>
                <a:gridCol w="514080"/>
                <a:gridCol w="517680"/>
                <a:gridCol w="517320"/>
              </a:tblGrid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B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C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D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F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B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C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D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ffff00"/>
                          </a:solidFill>
                          <a:latin typeface="Curlz MT"/>
                        </a:rPr>
                        <a:t>F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1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100" spc="-1" strike="noStrike">
                          <a:solidFill>
                            <a:srgbClr val="00ff00"/>
                          </a:solidFill>
                          <a:latin typeface="Curlz MT"/>
                        </a:rPr>
                        <a:t>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0" name="Group 69"/>
          <p:cNvGrpSpPr/>
          <p:nvPr/>
        </p:nvGrpSpPr>
        <p:grpSpPr>
          <a:xfrm>
            <a:off x="5516640" y="3859200"/>
            <a:ext cx="3793680" cy="2593440"/>
            <a:chOff x="5516640" y="3859200"/>
            <a:chExt cx="3793680" cy="2593440"/>
          </a:xfrm>
        </p:grpSpPr>
        <p:grpSp>
          <p:nvGrpSpPr>
            <p:cNvPr id="881" name="Group 70"/>
            <p:cNvGrpSpPr/>
            <p:nvPr/>
          </p:nvGrpSpPr>
          <p:grpSpPr>
            <a:xfrm>
              <a:off x="5516640" y="3859200"/>
              <a:ext cx="3793680" cy="2593440"/>
              <a:chOff x="5516640" y="3859200"/>
              <a:chExt cx="3793680" cy="2593440"/>
            </a:xfrm>
          </p:grpSpPr>
          <p:sp>
            <p:nvSpPr>
              <p:cNvPr id="882" name="AutoShape 71"/>
              <p:cNvSpPr/>
              <p:nvPr/>
            </p:nvSpPr>
            <p:spPr>
              <a:xfrm>
                <a:off x="5680440" y="3885480"/>
                <a:ext cx="532080" cy="53964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AutoShape 72"/>
              <p:cNvSpPr/>
              <p:nvPr/>
            </p:nvSpPr>
            <p:spPr>
              <a:xfrm>
                <a:off x="7596360" y="3859200"/>
                <a:ext cx="532080" cy="54000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AutoShape 73"/>
              <p:cNvSpPr/>
              <p:nvPr/>
            </p:nvSpPr>
            <p:spPr>
              <a:xfrm>
                <a:off x="5516640" y="5913000"/>
                <a:ext cx="529200" cy="53964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AutoShape 74"/>
              <p:cNvSpPr/>
              <p:nvPr/>
            </p:nvSpPr>
            <p:spPr>
              <a:xfrm>
                <a:off x="7558200" y="5307480"/>
                <a:ext cx="532440" cy="53964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AutoShape 75"/>
              <p:cNvSpPr/>
              <p:nvPr/>
            </p:nvSpPr>
            <p:spPr>
              <a:xfrm>
                <a:off x="6777000" y="4504320"/>
                <a:ext cx="532080" cy="53964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AutoShape 76"/>
              <p:cNvSpPr/>
              <p:nvPr/>
            </p:nvSpPr>
            <p:spPr>
              <a:xfrm>
                <a:off x="8781120" y="4530240"/>
                <a:ext cx="529200" cy="540000"/>
              </a:xfrm>
              <a:prstGeom prst="flowChartConnector">
                <a:avLst/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95360"/>
                    <a:tab algn="l" pos="990720"/>
                    <a:tab algn="l" pos="1486080"/>
                    <a:tab algn="l" pos="1981080"/>
                    <a:tab algn="l" pos="2476440"/>
                    <a:tab algn="l" pos="2971800"/>
                    <a:tab algn="l" pos="3467160"/>
                    <a:tab algn="l" pos="3962520"/>
                    <a:tab algn="l" pos="4457880"/>
                    <a:tab algn="l" pos="4952880"/>
                    <a:tab algn="l" pos="5448240"/>
                    <a:tab algn="l" pos="5943600"/>
                    <a:tab algn="l" pos="6438960"/>
                    <a:tab algn="l" pos="6934320"/>
                    <a:tab algn="l" pos="7429680"/>
                    <a:tab algn="l" pos="7924680"/>
                    <a:tab algn="l" pos="8420040"/>
                    <a:tab algn="l" pos="8915400"/>
                    <a:tab algn="l" pos="9410760"/>
                    <a:tab algn="l" pos="9906120"/>
                  </a:tabLst>
                </a:pPr>
                <a:r>
                  <a:rPr b="0" lang="it-IT" sz="3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77"/>
              <p:cNvSpPr/>
              <p:nvPr/>
            </p:nvSpPr>
            <p:spPr>
              <a:xfrm flipH="1">
                <a:off x="5843880" y="4372560"/>
                <a:ext cx="37800" cy="15138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78"/>
              <p:cNvSpPr/>
              <p:nvPr/>
            </p:nvSpPr>
            <p:spPr>
              <a:xfrm>
                <a:off x="6197040" y="4122360"/>
                <a:ext cx="1386360" cy="12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79"/>
              <p:cNvSpPr/>
              <p:nvPr/>
            </p:nvSpPr>
            <p:spPr>
              <a:xfrm>
                <a:off x="6146640" y="4345920"/>
                <a:ext cx="630000" cy="2898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0"/>
              <p:cNvSpPr/>
              <p:nvPr/>
            </p:nvSpPr>
            <p:spPr>
              <a:xfrm>
                <a:off x="7243200" y="4899240"/>
                <a:ext cx="415800" cy="5004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"/>
              <p:cNvSpPr/>
              <p:nvPr/>
            </p:nvSpPr>
            <p:spPr>
              <a:xfrm flipH="1">
                <a:off x="7835400" y="4385520"/>
                <a:ext cx="12600" cy="9612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2"/>
              <p:cNvSpPr/>
              <p:nvPr/>
            </p:nvSpPr>
            <p:spPr>
              <a:xfrm flipV="1">
                <a:off x="6033600" y="5662440"/>
                <a:ext cx="1562760" cy="4870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3"/>
              <p:cNvSpPr/>
              <p:nvPr/>
            </p:nvSpPr>
            <p:spPr>
              <a:xfrm>
                <a:off x="8112960" y="4175280"/>
                <a:ext cx="718200" cy="50004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4"/>
              <p:cNvSpPr/>
              <p:nvPr/>
            </p:nvSpPr>
            <p:spPr>
              <a:xfrm flipV="1">
                <a:off x="8087760" y="5004360"/>
                <a:ext cx="819000" cy="5133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6" name="Line 85"/>
            <p:cNvSpPr/>
            <p:nvPr/>
          </p:nvSpPr>
          <p:spPr>
            <a:xfrm flipV="1">
              <a:off x="7218360" y="4293360"/>
              <a:ext cx="466200" cy="263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9999998658895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6635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5835600" y="2570040"/>
            <a:ext cx="38498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3500" spc="-1" strike="noStrike">
                <a:solidFill>
                  <a:srgbClr val="fe1f08"/>
                </a:solidFill>
                <a:latin typeface="Forte"/>
              </a:rPr>
              <a:t>Graphe sur la carte de géographie de l’Afrique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98" name="Picture 3" descr="africa2coll"/>
          <p:cNvPicPr/>
          <p:nvPr/>
        </p:nvPicPr>
        <p:blipFill>
          <a:blip r:embed="rId2"/>
          <a:stretch/>
        </p:blipFill>
        <p:spPr>
          <a:xfrm>
            <a:off x="276120" y="1398600"/>
            <a:ext cx="4938840" cy="54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 rot="5400000">
            <a:off x="6092280" y="3204360"/>
            <a:ext cx="6667200" cy="13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20644"/>
                <a:gd name="adj2" fmla="val 0"/>
              </a:avLst>
            </a:prstTxWarp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Neverwinter"/>
              </a:rPr>
              <a:t>Matrice Boolean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Neverwinter"/>
              <a:ea typeface="Neverwinter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0" y="684360"/>
            <a:ext cx="7967520" cy="593856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 flipH="1" flipV="1">
            <a:off x="0" y="2509920"/>
            <a:ext cx="1627200" cy="46828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0" y="0"/>
            <a:ext cx="1627200" cy="1241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3691080" y="0"/>
            <a:ext cx="5873760" cy="1241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2509920"/>
            <a:ext cx="16272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691080" y="0"/>
            <a:ext cx="0" cy="12412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-360" y="1795320"/>
            <a:ext cx="2698920" cy="405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3100" spc="-1" strike="noStrike">
                <a:solidFill>
                  <a:srgbClr val="fe1f08"/>
                </a:solidFill>
                <a:latin typeface="Forte"/>
              </a:rPr>
              <a:t>D’après l’analyse du graphe, ainsi que de la matrice booléenne, il résulte que 4 couleurs au moins sont nécessaires.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07" name="Picture 3" descr="africa"/>
          <p:cNvPicPr/>
          <p:nvPr/>
        </p:nvPicPr>
        <p:blipFill>
          <a:blip r:embed="rId2"/>
          <a:stretch/>
        </p:blipFill>
        <p:spPr>
          <a:xfrm>
            <a:off x="4087800" y="2192400"/>
            <a:ext cx="5330880" cy="4883040"/>
          </a:xfrm>
          <a:prstGeom prst="rect">
            <a:avLst/>
          </a:prstGeom>
          <a:ln w="0">
            <a:noFill/>
          </a:ln>
        </p:spPr>
      </p:pic>
      <p:sp>
        <p:nvSpPr>
          <p:cNvPr id="908" name="WordArt 4"/>
          <p:cNvSpPr txBox="1"/>
          <p:nvPr/>
        </p:nvSpPr>
        <p:spPr>
          <a:xfrm>
            <a:off x="2260440" y="763560"/>
            <a:ext cx="4875480" cy="20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30369"/>
              </a:avLst>
            </a:prstTxWarp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1f08"/>
                </a:solidFill>
                <a:latin typeface="Neverwinter"/>
              </a:rPr>
              <a:t>Sol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1f08"/>
              </a:solidFill>
              <a:latin typeface="Neverwinter"/>
              <a:ea typeface="Neverwinter"/>
            </a:endParaRPr>
          </a:p>
        </p:txBody>
      </p:sp>
    </p:spTree>
  </p:cSld>
  <p:transition advTm="13000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39" dur="3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talie avant de l’unit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2"/>
          <p:cNvSpPr/>
          <p:nvPr/>
        </p:nvSpPr>
        <p:spPr>
          <a:xfrm>
            <a:off x="515160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sons-nous la question suivante: quel est le nombr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inimum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 couleurs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écessaire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our la colori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ur pouvoir répondre à cette question, laissons-nous aider par d’autres mathématiciens qui ont considéré le problème avant no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541440" y="126036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2"/>
          <p:cNvSpPr/>
          <p:nvPr/>
        </p:nvSpPr>
        <p:spPr>
          <a:xfrm>
            <a:off x="287280" y="4716360"/>
            <a:ext cx="95410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343080" indent="-331920">
              <a:lnSpc>
                <a:spcPct val="50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ès 1952, Dynkin – Uspenskii a présenté ce théorème dans la rev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50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thematical discussions, Mosco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360360" y="250920"/>
            <a:ext cx="90662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orions une cart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ème: quand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ux couleurs sont suffisan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503280" y="2627280"/>
            <a:ext cx="2808360" cy="18684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"/>
          <p:cNvPicPr/>
          <p:nvPr/>
        </p:nvPicPr>
        <p:blipFill>
          <a:blip r:embed="rId2"/>
          <a:stretch/>
        </p:blipFill>
        <p:spPr>
          <a:xfrm>
            <a:off x="3384720" y="2843280"/>
            <a:ext cx="2447640" cy="14810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"/>
          <p:cNvPicPr/>
          <p:nvPr/>
        </p:nvPicPr>
        <p:blipFill>
          <a:blip r:embed="rId3"/>
          <a:stretch/>
        </p:blipFill>
        <p:spPr>
          <a:xfrm>
            <a:off x="6264360" y="2771640"/>
            <a:ext cx="25336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" descr=""/>
          <p:cNvPicPr/>
          <p:nvPr/>
        </p:nvPicPr>
        <p:blipFill>
          <a:blip r:embed="rId1"/>
          <a:stretch/>
        </p:blipFill>
        <p:spPr>
          <a:xfrm>
            <a:off x="431640" y="1979640"/>
            <a:ext cx="5040360" cy="388764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2"/>
          <p:cNvSpPr/>
          <p:nvPr/>
        </p:nvSpPr>
        <p:spPr>
          <a:xfrm>
            <a:off x="5400720" y="1332000"/>
            <a:ext cx="43196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ux couleurs suffi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ur toute carte tracée avec des lignes droites qui en traversent toute la surface, ou bien avec des lign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fermées simples entièrement intern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la c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46836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héorème des deux couleur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2"/>
          <p:cNvSpPr/>
          <p:nvPr/>
        </p:nvSpPr>
        <p:spPr>
          <a:xfrm>
            <a:off x="576360" y="1768320"/>
            <a:ext cx="914220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théorème est valable en général si l’on dessine des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lignes fermées entièrement interne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Il vaudrait mieux ne pas les tracer, mais le théorème peut être démontré même si les lignes fermées s’entrecrois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1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éorème des deux coule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1"/>
          <a:stretch/>
        </p:blipFill>
        <p:spPr>
          <a:xfrm>
            <a:off x="431640" y="1258920"/>
            <a:ext cx="4426200" cy="313056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3"/>
          <p:cNvSpPr/>
          <p:nvPr/>
        </p:nvSpPr>
        <p:spPr>
          <a:xfrm>
            <a:off x="5111640" y="1332000"/>
            <a:ext cx="44262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s figures, dont le nombre de lignes convergeant vers un sommet est toujours un nombre pair, peuvent être coloriées avec deux couleurs seu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8" name="Picture 5" descr=""/>
          <p:cNvPicPr/>
          <p:nvPr/>
        </p:nvPicPr>
        <p:blipFill>
          <a:blip r:embed="rId2"/>
          <a:stretch/>
        </p:blipFill>
        <p:spPr>
          <a:xfrm>
            <a:off x="5904000" y="3995640"/>
            <a:ext cx="3887640" cy="299880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6"/>
          <p:cNvSpPr/>
          <p:nvPr/>
        </p:nvSpPr>
        <p:spPr>
          <a:xfrm>
            <a:off x="647640" y="4500720"/>
            <a:ext cx="48974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les lignes qui convergent vers un sommet sont un nombre impair, il faudra dans ce cas ajouter une couleu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tal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3890880" cy="4989600"/>
          </a:xfrm>
          <a:prstGeom prst="rect">
            <a:avLst/>
          </a:prstGeom>
          <a:ln w="0">
            <a:noFill/>
          </a:ln>
        </p:spPr>
      </p:pic>
      <p:sp>
        <p:nvSpPr>
          <p:cNvPr id="822" name="Text Box 3"/>
          <p:cNvSpPr/>
          <p:nvPr/>
        </p:nvSpPr>
        <p:spPr>
          <a:xfrm>
            <a:off x="5151600" y="1768320"/>
            <a:ext cx="4425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15840" indent="-4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584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oici la carte de géographie de l’Italie, telle qu’elle est aujourd’hu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840" indent="-4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584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bien de couleurs ont été utilisé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840" indent="-46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5840"/>
                <a:tab algn="l" pos="463680"/>
                <a:tab algn="l" pos="91296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ut-on en utiliser moins et combien au minim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tali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1"/>
          <a:stretch/>
        </p:blipFill>
        <p:spPr>
          <a:xfrm>
            <a:off x="771480" y="1768320"/>
            <a:ext cx="3890880" cy="498960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3"/>
          <p:cNvSpPr/>
          <p:nvPr/>
        </p:nvSpPr>
        <p:spPr>
          <a:xfrm>
            <a:off x="4896000" y="1768320"/>
            <a:ext cx="48243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us avons réussi à la colorier en utilisant uniquement 4 coule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’est une règle général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4:22:00Z</dcterms:created>
  <dc:creator>anto tre</dc:creator>
  <dc:description/>
  <dc:language>en-US</dc:language>
  <cp:lastModifiedBy>AMG</cp:lastModifiedBy>
  <dcterms:modified xsi:type="dcterms:W3CDTF">2011-05-15T10:30:04Z</dcterms:modified>
  <cp:revision>42</cp:revision>
  <dc:subject/>
  <dc:title>Diapositiva 1</dc:title>
</cp:coreProperties>
</file>